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Click to move the slide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A420-83C5-4021-8355-1CB28EA67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7D9A-A36B-4F65-BF19-3EFEEFDDC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BC1F-282F-461A-9C97-F4D391084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3842-A01C-479A-AE59-62AE35384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EA8F-1A29-4F29-99F8-D941BE951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2BB4-7E36-4042-9BCB-02632B483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629E-555B-4CB8-9E31-FED90D65D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04DB-99CE-4BB5-8D23-8221F0C61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373D-6613-4CEA-B9C2-883AB1093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662E-5A42-4401-A622-2CE5AA02E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648C-D824-4491-A8C4-8DB576127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C379-14C5-401F-B220-5BC320363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DF3A-8FD6-4722-9B0F-1941E3DA3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C308-81E0-40AE-8929-E0A7A7813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9D57-B439-42E8-B34C-C2B2062FD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4CC1-231E-4D5C-AE0B-45A633696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6E4C-655B-4854-8F0F-7F02B3FB2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A37B-73BE-41CF-A561-216BEDE5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32CC-CD80-4B55-A7EC-D8E77F4C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C20B2-1C87-4381-A3A8-AA140578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367BA-C74F-4523-A7CE-7DC15B27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E10275-0BB6-4F6B-B87A-8DAF49FC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96E30-8412-48BB-8D7B-3AE4EA0D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07E14E-B642-4D1B-A0EE-5B336053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98B1F-8C9B-40F3-8213-32A3E367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5D9D5-0D61-444E-BDA2-C903AAC8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8B17F-B8F3-40F2-BB2D-62C4F8A58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4DF72-2080-4C0F-8665-FB92B237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83B9-EBCB-4A91-86FA-B35DF00E8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8B9F-9F17-4E7F-B706-494AE7D1E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C50E-05E2-456D-9628-3DC063FA4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98D5-7BD6-4D80-B014-07B97443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DC09-2865-4609-9CAB-6B1A4D08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3772-52CB-4F73-AE19-79FF8DA8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5841-C2ED-496E-BAFA-58CF5B95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13DB-A893-4F92-8270-D342554F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6E80-34E3-4817-89F0-E9136776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FF80-39D9-4DB1-AF23-4173B67F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B735-F429-48C5-8B69-195C239C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08C3-56FA-45A5-B342-053FD54F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E014-5E27-4EDC-B95A-90C95AC7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8340-7773-4ACA-92BF-EAC022CFF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6698-0DE4-4631-B728-6BB9A5D74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FC7C9-3776-4A72-9E48-6360D20AF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14EBA-8859-4CEA-B839-E1B47FE7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AA577-8EAF-4356-996F-8BFE11CF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B7526-67D5-4721-B38C-43C73D9B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D5B73-E42E-49A9-A661-F613BBF3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0E61-964C-487D-B8E3-B9FBBC24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62F4E-BB2C-4F16-91F6-1DAA58CD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E31B0-EF97-4F9C-AC03-F019F18B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6B738-0566-4F1C-A0B1-1FF83FA1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3EFFA-1CB9-4C74-9ECC-DBFD187D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E895A-1A56-4EBB-9663-07A0A1C2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ABCC5-A73A-4E8E-B0F7-9938F7E6A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973DD-C32D-46EC-ABE0-2F2E78E10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3F15A-E043-4790-871D-665004B9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D2717-7621-44FE-A11E-773A55EB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E08B8-719E-4405-AABB-EBA6E3EB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6B7F-D3BC-4D2A-8EE4-08E5052A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E1E34-7A93-449E-A269-70F7A857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05713-2257-4DF7-8F40-37F0CA05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08409-1FD7-4432-9721-657B37F5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ECA3E-0228-493D-BA7A-6A8360A9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F9DC0-CB56-4444-BAF7-0D85D0BA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97054-37F5-46BA-8BAF-C4B7E31C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28F0B-6FE9-4CD5-8318-58E42D7C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B2F36-AECF-432D-9BB7-497E347C8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983AD-8177-4390-951B-05B429FBF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9DB7D-6F3F-4239-ADB9-132D55580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075D-D266-412E-948A-F3ED267C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40BE7-F6FA-4877-8332-55CFFE9C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936A6-4884-40DD-9B71-890AEEFF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FBD1D-2786-416C-BEED-8A81CB1F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11C22-3C7C-4D04-B96A-9F358DC8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82543-F556-4BC9-B94E-3F8C0165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A1D11-5D62-4EE4-9221-5964145E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10887-5D77-44C5-8136-A60E2BA9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75D7C-2EC9-40CB-8816-3AFC752D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8A781-2B7A-469E-9694-2CCCAA14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16CD8-A426-41F2-80A9-0F998345C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3350-3CA0-4B74-8F50-BF2B44F1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D37CE-2C3B-43E1-B7E4-9513991BB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36EC2-1EF0-46E2-AB59-B9CA7D96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FAE1A-8BCF-484F-A78E-E6BA9E23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48D8B-F6C1-466A-B07C-0A3489E6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28813-8EB4-4322-9365-B1CA7DF5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B59B0-9B13-4E6B-99B5-981C9314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021D1-AF19-4A25-8D06-BC273847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DCA0D-CA8F-4A2A-85F8-0A401195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7EA12-F717-4861-BD16-0EBA390D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1C96E-30EC-4B47-A576-9A23704B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488B-E780-49FE-98BC-39395CED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6A34A-F6A1-4804-BAD9-580F8254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FB21F-D98F-4E3B-A9FE-9321EC175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F683A-F077-44F9-9F9E-11E9D64E1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2CB22-B83C-440E-9F25-6E02F1554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35C5D-DC3C-417D-AA82-A4691DC7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7D4E0-558B-49DD-B525-C33E3CD4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05B86-B6DA-4C93-BB63-D22E2742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651D1-1B16-4B9D-AE7B-328C4EA7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F0219-3F50-4C23-A97D-1EF2F16C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47B30-0259-4530-B64E-0ACF9C3D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97E2-654C-4C2B-A76C-4613BD72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806A5-7C84-4604-B71D-6CDC4A42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95563-1EF2-4187-82B3-697DCDBB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1A367-9904-4F41-8F6E-B7EA4D23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0B3F7-E85F-49CD-A4A4-DEBDF220A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76E53-598A-413B-B50E-965101F15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AF5D7-ECB1-4D63-BAC2-A8364A670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329DB-FD07-4650-A2FA-EF9F8A98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24EAB-1847-4790-9D4F-95E67708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274BA-5014-4830-96C5-6F5EB970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A09D0-2FAF-4D35-A713-16C9F622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2BA1-9838-42CE-879C-1BA35F85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3707C-A50D-4639-A6E1-6F2980B7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AC85F-244A-404B-ABB1-9CAD2231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33138-04EB-4DDA-A3D0-D0D8F146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E3FEA-C840-4355-AB6B-14D32970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6205C-D071-4D7E-8950-02904316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9B70A-B0DF-44E2-A03E-282D3284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CCE65-CABD-45F2-B1BA-DE5B83AFD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3D241-4585-4D00-B7B5-03C5AC49A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7AD21-BE79-4F4A-879C-D696F714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72895-BF02-4BAF-A7DB-0F500DE3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Click to edit the title text format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9AFF-415C-4BA4-823F-0447E1A03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6165-BCE5-4F80-8431-FD8A447EB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895120"/>
            <a:ext cx="822960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ABDF-BA7F-4EAD-8254-CD8378EFE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3D8A-196B-4ADF-B52A-29DDB8549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0824-6085-4C66-A489-0B1D17397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2895120"/>
            <a:ext cx="822960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8670-9180-4D5F-8B31-B809A24EC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CE19-D2DA-4F0F-AB72-42CFDAA88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544A-1F81-4C6C-9E83-FDBE598EC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2895120"/>
            <a:ext cx="8229600" cy="30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0129-05C3-4EC0-B92E-38B7B437A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1.3: functions and their representations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9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The vertical line test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ry possible vertical line intersects a graph at no more than one point, then the graph represents a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se p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Group 8"/>
          <p:cNvGrpSpPr/>
          <p:nvPr/>
        </p:nvGrpSpPr>
        <p:grpSpPr>
          <a:xfrm>
            <a:off x="457200" y="3886200"/>
            <a:ext cx="6707160" cy="2143080"/>
            <a:chOff x="457200" y="3886200"/>
            <a:chExt cx="6707160" cy="2143080"/>
          </a:xfrm>
        </p:grpSpPr>
        <p:grpSp>
          <p:nvGrpSpPr>
            <p:cNvPr id="663" name="Group 7"/>
            <p:cNvGrpSpPr/>
            <p:nvPr/>
          </p:nvGrpSpPr>
          <p:grpSpPr>
            <a:xfrm>
              <a:off x="457200" y="3886200"/>
              <a:ext cx="4270320" cy="2066760"/>
              <a:chOff x="457200" y="3886200"/>
              <a:chExt cx="4270320" cy="2066760"/>
            </a:xfrm>
          </p:grpSpPr>
          <p:graphicFrame>
            <p:nvGraphicFramePr>
              <p:cNvPr id="664" name="Object 4"/>
              <p:cNvGraphicFramePr/>
              <p:nvPr/>
            </p:nvGraphicFramePr>
            <p:xfrm>
              <a:off x="457200" y="3962520"/>
              <a:ext cx="1984320" cy="19904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65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57200" y="3962520"/>
                        <a:ext cx="1984320" cy="1990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66" name="Object 5"/>
              <p:cNvGraphicFramePr/>
              <p:nvPr/>
            </p:nvGraphicFramePr>
            <p:xfrm>
              <a:off x="2819520" y="3886200"/>
              <a:ext cx="1908000" cy="19144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67" name="Object 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19520" y="3886200"/>
                        <a:ext cx="1908000" cy="1914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668" name="Object 6"/>
            <p:cNvGraphicFramePr/>
            <p:nvPr/>
          </p:nvGraphicFramePr>
          <p:xfrm>
            <a:off x="5029200" y="3886200"/>
            <a:ext cx="2135160" cy="21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69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29200" y="3886200"/>
                      <a:ext cx="2135160" cy="21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70" name="SMARTPenAnnotation387"/>
          <p:cNvSpPr/>
          <p:nvPr/>
        </p:nvSpPr>
        <p:spPr>
          <a:xfrm>
            <a:off x="3360600" y="4503600"/>
            <a:ext cx="473040" cy="3430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MARTPenAnnotation388"/>
          <p:cNvSpPr/>
          <p:nvPr/>
        </p:nvSpPr>
        <p:spPr>
          <a:xfrm>
            <a:off x="3921120" y="4361040"/>
            <a:ext cx="216000" cy="222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MARTPenAnnotation389"/>
          <p:cNvSpPr/>
          <p:nvPr/>
        </p:nvSpPr>
        <p:spPr>
          <a:xfrm>
            <a:off x="4160880" y="4309920"/>
            <a:ext cx="217440" cy="284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MARTPenAnnotation390"/>
          <p:cNvSpPr/>
          <p:nvPr/>
        </p:nvSpPr>
        <p:spPr>
          <a:xfrm>
            <a:off x="3703680" y="4846680"/>
            <a:ext cx="204840" cy="245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MARTPenAnnotation391"/>
          <p:cNvSpPr/>
          <p:nvPr/>
        </p:nvSpPr>
        <p:spPr>
          <a:xfrm>
            <a:off x="3965400" y="4778280"/>
            <a:ext cx="147960" cy="212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MARTPenAnnotation392"/>
          <p:cNvSpPr/>
          <p:nvPr/>
        </p:nvSpPr>
        <p:spPr>
          <a:xfrm>
            <a:off x="4149720" y="4651200"/>
            <a:ext cx="136440" cy="298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MARTPenAnnotation393"/>
          <p:cNvSpPr/>
          <p:nvPr/>
        </p:nvSpPr>
        <p:spPr>
          <a:xfrm>
            <a:off x="4114800" y="4743360"/>
            <a:ext cx="250920" cy="1364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MARTPenAnnotation394"/>
          <p:cNvSpPr/>
          <p:nvPr/>
        </p:nvSpPr>
        <p:spPr>
          <a:xfrm>
            <a:off x="3325680" y="5407200"/>
            <a:ext cx="149400" cy="4442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MARTPenAnnotation395"/>
          <p:cNvSpPr/>
          <p:nvPr/>
        </p:nvSpPr>
        <p:spPr>
          <a:xfrm>
            <a:off x="3257640" y="5326200"/>
            <a:ext cx="215640" cy="309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MARTPenAnnotation396"/>
          <p:cNvSpPr/>
          <p:nvPr/>
        </p:nvSpPr>
        <p:spPr>
          <a:xfrm>
            <a:off x="3533760" y="5337000"/>
            <a:ext cx="317520" cy="549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MARTPenAnnotation397"/>
          <p:cNvSpPr/>
          <p:nvPr/>
        </p:nvSpPr>
        <p:spPr>
          <a:xfrm>
            <a:off x="3476520" y="5372280"/>
            <a:ext cx="363600" cy="263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MARTPenAnnotation398"/>
          <p:cNvSpPr/>
          <p:nvPr/>
        </p:nvSpPr>
        <p:spPr>
          <a:xfrm>
            <a:off x="3870360" y="5126040"/>
            <a:ext cx="333360" cy="519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MARTPenAnnotation399"/>
          <p:cNvSpPr/>
          <p:nvPr/>
        </p:nvSpPr>
        <p:spPr>
          <a:xfrm>
            <a:off x="4186080" y="5002200"/>
            <a:ext cx="241560" cy="5526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Representations of functions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ally: in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ically: table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it is often not possible or appropriate to list all values, this type of table is often referred to as a partial numerical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rammatically: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ically: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cally: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MARTPenAnnotation360"/>
          <p:cNvSpPr/>
          <p:nvPr/>
        </p:nvSpPr>
        <p:spPr>
          <a:xfrm>
            <a:off x="6551640" y="4022640"/>
            <a:ext cx="682560" cy="1074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MARTPenAnnotation361"/>
          <p:cNvSpPr/>
          <p:nvPr/>
        </p:nvSpPr>
        <p:spPr>
          <a:xfrm>
            <a:off x="7761240" y="4000680"/>
            <a:ext cx="696960" cy="879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MARTPenAnnotation362"/>
          <p:cNvSpPr/>
          <p:nvPr/>
        </p:nvSpPr>
        <p:spPr>
          <a:xfrm>
            <a:off x="6823080" y="3589200"/>
            <a:ext cx="69840" cy="319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MARTPenAnnotation363"/>
          <p:cNvSpPr/>
          <p:nvPr/>
        </p:nvSpPr>
        <p:spPr>
          <a:xfrm>
            <a:off x="6651720" y="3589200"/>
            <a:ext cx="38880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MARTPenAnnotation364"/>
          <p:cNvSpPr/>
          <p:nvPr/>
        </p:nvSpPr>
        <p:spPr>
          <a:xfrm>
            <a:off x="6675480" y="3817800"/>
            <a:ext cx="468360" cy="68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MARTPenAnnotation365"/>
          <p:cNvSpPr/>
          <p:nvPr/>
        </p:nvSpPr>
        <p:spPr>
          <a:xfrm>
            <a:off x="8229600" y="3429000"/>
            <a:ext cx="250920" cy="307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MARTPenAnnotation366"/>
          <p:cNvSpPr/>
          <p:nvPr/>
        </p:nvSpPr>
        <p:spPr>
          <a:xfrm>
            <a:off x="6880320" y="4229280"/>
            <a:ext cx="46080" cy="263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MARTPenAnnotation367"/>
          <p:cNvSpPr/>
          <p:nvPr/>
        </p:nvSpPr>
        <p:spPr>
          <a:xfrm>
            <a:off x="6983280" y="4187880"/>
            <a:ext cx="1017720" cy="198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MARTPenAnnotation368"/>
          <p:cNvSpPr/>
          <p:nvPr/>
        </p:nvSpPr>
        <p:spPr>
          <a:xfrm>
            <a:off x="8093160" y="4240080"/>
            <a:ext cx="11160" cy="217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MARTPenAnnotation369"/>
          <p:cNvSpPr/>
          <p:nvPr/>
        </p:nvSpPr>
        <p:spPr>
          <a:xfrm>
            <a:off x="8161200" y="4229280"/>
            <a:ext cx="103320" cy="193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MARTPenAnnotation370"/>
          <p:cNvSpPr/>
          <p:nvPr/>
        </p:nvSpPr>
        <p:spPr>
          <a:xfrm>
            <a:off x="6732720" y="4584600"/>
            <a:ext cx="274680" cy="271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MARTPenAnnotation371"/>
          <p:cNvSpPr/>
          <p:nvPr/>
        </p:nvSpPr>
        <p:spPr>
          <a:xfrm>
            <a:off x="7018200" y="4618080"/>
            <a:ext cx="947880" cy="119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MARTPenAnnotation372"/>
          <p:cNvSpPr/>
          <p:nvPr/>
        </p:nvSpPr>
        <p:spPr>
          <a:xfrm>
            <a:off x="8035920" y="4549680"/>
            <a:ext cx="11160" cy="204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MARTPenAnnotation373"/>
          <p:cNvSpPr/>
          <p:nvPr/>
        </p:nvSpPr>
        <p:spPr>
          <a:xfrm>
            <a:off x="8115480" y="4525920"/>
            <a:ext cx="136440" cy="149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MARTPenAnnotation374"/>
          <p:cNvSpPr/>
          <p:nvPr/>
        </p:nvSpPr>
        <p:spPr>
          <a:xfrm>
            <a:off x="4400640" y="5337000"/>
            <a:ext cx="274680" cy="777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MARTPenAnnotation375"/>
          <p:cNvSpPr/>
          <p:nvPr/>
        </p:nvSpPr>
        <p:spPr>
          <a:xfrm>
            <a:off x="4251240" y="5635800"/>
            <a:ext cx="320760" cy="136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MARTPenAnnotation376"/>
          <p:cNvSpPr/>
          <p:nvPr/>
        </p:nvSpPr>
        <p:spPr>
          <a:xfrm>
            <a:off x="4824360" y="5178600"/>
            <a:ext cx="182520" cy="672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SMARTPenAnnotation377"/>
          <p:cNvSpPr/>
          <p:nvPr/>
        </p:nvSpPr>
        <p:spPr>
          <a:xfrm>
            <a:off x="4983120" y="5497560"/>
            <a:ext cx="206280" cy="138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MARTPenAnnotation378"/>
          <p:cNvSpPr/>
          <p:nvPr/>
        </p:nvSpPr>
        <p:spPr>
          <a:xfrm>
            <a:off x="5086440" y="5429160"/>
            <a:ext cx="79200" cy="320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MARTPenAnnotation379"/>
          <p:cNvSpPr/>
          <p:nvPr/>
        </p:nvSpPr>
        <p:spPr>
          <a:xfrm>
            <a:off x="5235480" y="5257800"/>
            <a:ext cx="147600" cy="492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MARTPenAnnotation380"/>
          <p:cNvSpPr/>
          <p:nvPr/>
        </p:nvSpPr>
        <p:spPr>
          <a:xfrm>
            <a:off x="5508720" y="5383080"/>
            <a:ext cx="24120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MARTPenAnnotation381"/>
          <p:cNvSpPr/>
          <p:nvPr/>
        </p:nvSpPr>
        <p:spPr>
          <a:xfrm>
            <a:off x="5580000" y="5451480"/>
            <a:ext cx="169920" cy="44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MARTPenAnnotation382"/>
          <p:cNvSpPr/>
          <p:nvPr/>
        </p:nvSpPr>
        <p:spPr>
          <a:xfrm>
            <a:off x="5965920" y="5292720"/>
            <a:ext cx="195120" cy="297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SMARTPenAnnotation383"/>
          <p:cNvSpPr/>
          <p:nvPr/>
        </p:nvSpPr>
        <p:spPr>
          <a:xfrm>
            <a:off x="5978520" y="5246640"/>
            <a:ext cx="147600" cy="411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MARTPenAnnotation384"/>
          <p:cNvSpPr/>
          <p:nvPr/>
        </p:nvSpPr>
        <p:spPr>
          <a:xfrm>
            <a:off x="6229440" y="5315040"/>
            <a:ext cx="274680" cy="4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MARTPenAnnotation385"/>
          <p:cNvSpPr/>
          <p:nvPr/>
        </p:nvSpPr>
        <p:spPr>
          <a:xfrm>
            <a:off x="6346800" y="5200560"/>
            <a:ext cx="54000" cy="365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MARTPenAnnotation386"/>
          <p:cNvSpPr/>
          <p:nvPr/>
        </p:nvSpPr>
        <p:spPr>
          <a:xfrm>
            <a:off x="6550200" y="5189400"/>
            <a:ext cx="239400" cy="297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Using these representations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ic: f(x)=x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icall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4" descr="basic graph"/>
          <p:cNvPicPr/>
          <p:nvPr/>
        </p:nvPicPr>
        <p:blipFill>
          <a:blip r:embed="rId1"/>
          <a:stretch/>
        </p:blipFill>
        <p:spPr>
          <a:xfrm>
            <a:off x="5486400" y="3124080"/>
            <a:ext cx="3017880" cy="3095640"/>
          </a:xfrm>
          <a:prstGeom prst="rect">
            <a:avLst/>
          </a:prstGeom>
          <a:ln w="0">
            <a:noFill/>
          </a:ln>
        </p:spPr>
      </p:pic>
      <p:sp>
        <p:nvSpPr>
          <p:cNvPr id="715" name="SMARTPenAnnotation336"/>
          <p:cNvSpPr/>
          <p:nvPr/>
        </p:nvSpPr>
        <p:spPr>
          <a:xfrm>
            <a:off x="1646280" y="2754360"/>
            <a:ext cx="446040" cy="263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SMARTPenAnnotation337"/>
          <p:cNvSpPr/>
          <p:nvPr/>
        </p:nvSpPr>
        <p:spPr>
          <a:xfrm>
            <a:off x="1692360" y="2754360"/>
            <a:ext cx="318960" cy="411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MARTPenAnnotation338"/>
          <p:cNvSpPr/>
          <p:nvPr/>
        </p:nvSpPr>
        <p:spPr>
          <a:xfrm>
            <a:off x="2251080" y="2664000"/>
            <a:ext cx="217440" cy="2754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MARTPenAnnotation339"/>
          <p:cNvSpPr/>
          <p:nvPr/>
        </p:nvSpPr>
        <p:spPr>
          <a:xfrm>
            <a:off x="1325520" y="3213000"/>
            <a:ext cx="2195640" cy="158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MARTPenAnnotation340"/>
          <p:cNvSpPr/>
          <p:nvPr/>
        </p:nvSpPr>
        <p:spPr>
          <a:xfrm>
            <a:off x="2525760" y="2685960"/>
            <a:ext cx="228600" cy="457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MARTPenAnnotation341"/>
          <p:cNvSpPr/>
          <p:nvPr/>
        </p:nvSpPr>
        <p:spPr>
          <a:xfrm>
            <a:off x="2422440" y="2960640"/>
            <a:ext cx="298440" cy="33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MARTPenAnnotation342"/>
          <p:cNvSpPr/>
          <p:nvPr/>
        </p:nvSpPr>
        <p:spPr>
          <a:xfrm>
            <a:off x="2830680" y="2697120"/>
            <a:ext cx="187200" cy="389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MARTPenAnnotation343"/>
          <p:cNvSpPr/>
          <p:nvPr/>
        </p:nvSpPr>
        <p:spPr>
          <a:xfrm>
            <a:off x="2994120" y="3086280"/>
            <a:ext cx="4680" cy="360"/>
          </a:xfrm>
          <a:prstGeom prst="pie">
            <a:avLst/>
          </a:prstGeom>
          <a:solidFill>
            <a:srgbClr val="cc0066"/>
          </a:solidFill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MARTPenAnnotation344"/>
          <p:cNvSpPr/>
          <p:nvPr/>
        </p:nvSpPr>
        <p:spPr>
          <a:xfrm>
            <a:off x="3097080" y="2879640"/>
            <a:ext cx="206640" cy="149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MARTPenAnnotation345"/>
          <p:cNvSpPr/>
          <p:nvPr/>
        </p:nvSpPr>
        <p:spPr>
          <a:xfrm>
            <a:off x="3063960" y="2857680"/>
            <a:ext cx="215640" cy="206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SMARTPenAnnotation346"/>
          <p:cNvSpPr/>
          <p:nvPr/>
        </p:nvSpPr>
        <p:spPr>
          <a:xfrm>
            <a:off x="3279600" y="2651040"/>
            <a:ext cx="192240" cy="412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MARTPenAnnotation347"/>
          <p:cNvSpPr/>
          <p:nvPr/>
        </p:nvSpPr>
        <p:spPr>
          <a:xfrm>
            <a:off x="1874880" y="3406680"/>
            <a:ext cx="19080" cy="354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MARTPenAnnotation348"/>
          <p:cNvSpPr/>
          <p:nvPr/>
        </p:nvSpPr>
        <p:spPr>
          <a:xfrm>
            <a:off x="2462040" y="3371760"/>
            <a:ext cx="509760" cy="308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SMARTPenAnnotation349"/>
          <p:cNvSpPr/>
          <p:nvPr/>
        </p:nvSpPr>
        <p:spPr>
          <a:xfrm>
            <a:off x="1571760" y="3898800"/>
            <a:ext cx="439560" cy="387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SMARTPenAnnotation350"/>
          <p:cNvSpPr/>
          <p:nvPr/>
        </p:nvSpPr>
        <p:spPr>
          <a:xfrm>
            <a:off x="2503440" y="3865680"/>
            <a:ext cx="317520" cy="328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MARTPenAnnotation351"/>
          <p:cNvSpPr/>
          <p:nvPr/>
        </p:nvSpPr>
        <p:spPr>
          <a:xfrm>
            <a:off x="1657440" y="4457880"/>
            <a:ext cx="365040" cy="376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MARTPenAnnotation352"/>
          <p:cNvSpPr/>
          <p:nvPr/>
        </p:nvSpPr>
        <p:spPr>
          <a:xfrm>
            <a:off x="2565360" y="4400640"/>
            <a:ext cx="327240" cy="193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SMARTPenAnnotation353"/>
          <p:cNvSpPr/>
          <p:nvPr/>
        </p:nvSpPr>
        <p:spPr>
          <a:xfrm>
            <a:off x="2789280" y="4389480"/>
            <a:ext cx="44280" cy="514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MARTPenAnnotation354"/>
          <p:cNvSpPr/>
          <p:nvPr/>
        </p:nvSpPr>
        <p:spPr>
          <a:xfrm>
            <a:off x="7201080" y="4029120"/>
            <a:ext cx="33120" cy="60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MARTPenAnnotation355"/>
          <p:cNvSpPr/>
          <p:nvPr/>
        </p:nvSpPr>
        <p:spPr>
          <a:xfrm>
            <a:off x="7429680" y="3786120"/>
            <a:ext cx="56880" cy="60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MARTPenAnnotation356"/>
          <p:cNvSpPr/>
          <p:nvPr/>
        </p:nvSpPr>
        <p:spPr>
          <a:xfrm>
            <a:off x="7694640" y="3543480"/>
            <a:ext cx="31680" cy="60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MARTPenAnnotation357"/>
          <p:cNvSpPr/>
          <p:nvPr/>
        </p:nvSpPr>
        <p:spPr>
          <a:xfrm>
            <a:off x="5726160" y="3154320"/>
            <a:ext cx="2400120" cy="2400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MARTPenAnnotation358"/>
          <p:cNvSpPr/>
          <p:nvPr/>
        </p:nvSpPr>
        <p:spPr>
          <a:xfrm>
            <a:off x="8035920" y="3029040"/>
            <a:ext cx="272880" cy="274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MARTPenAnnotation359"/>
          <p:cNvSpPr/>
          <p:nvPr/>
        </p:nvSpPr>
        <p:spPr>
          <a:xfrm>
            <a:off x="5622840" y="5257800"/>
            <a:ext cx="263520" cy="422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Set builder notation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 variable | mathematical description of the variable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x|x&gt;5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y| 5&lt;y&lt;1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Find the domain of f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MARTPenAnnotation311"/>
          <p:cNvSpPr/>
          <p:nvPr/>
        </p:nvSpPr>
        <p:spPr>
          <a:xfrm>
            <a:off x="5143680" y="1886040"/>
            <a:ext cx="307800" cy="399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SMARTPenAnnotation312"/>
          <p:cNvSpPr/>
          <p:nvPr/>
        </p:nvSpPr>
        <p:spPr>
          <a:xfrm>
            <a:off x="5051520" y="1954080"/>
            <a:ext cx="355680" cy="435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SMARTPenAnnotation313"/>
          <p:cNvSpPr/>
          <p:nvPr/>
        </p:nvSpPr>
        <p:spPr>
          <a:xfrm>
            <a:off x="5578560" y="2046240"/>
            <a:ext cx="457200" cy="68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SMARTPenAnnotation314"/>
          <p:cNvSpPr/>
          <p:nvPr/>
        </p:nvSpPr>
        <p:spPr>
          <a:xfrm>
            <a:off x="5622840" y="2136600"/>
            <a:ext cx="435240" cy="81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MARTPenAnnotation315"/>
          <p:cNvSpPr/>
          <p:nvPr/>
        </p:nvSpPr>
        <p:spPr>
          <a:xfrm>
            <a:off x="5794200" y="1874880"/>
            <a:ext cx="24120" cy="582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MARTPenAnnotation316"/>
          <p:cNvSpPr/>
          <p:nvPr/>
        </p:nvSpPr>
        <p:spPr>
          <a:xfrm>
            <a:off x="6194520" y="1874880"/>
            <a:ext cx="496800" cy="3999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SMARTPenAnnotation317"/>
          <p:cNvSpPr/>
          <p:nvPr/>
        </p:nvSpPr>
        <p:spPr>
          <a:xfrm>
            <a:off x="5040360" y="2960640"/>
            <a:ext cx="252360" cy="959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MARTPenAnnotation318"/>
          <p:cNvSpPr/>
          <p:nvPr/>
        </p:nvSpPr>
        <p:spPr>
          <a:xfrm>
            <a:off x="5418000" y="3360600"/>
            <a:ext cx="343080" cy="331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MARTPenAnnotation319"/>
          <p:cNvSpPr/>
          <p:nvPr/>
        </p:nvSpPr>
        <p:spPr>
          <a:xfrm>
            <a:off x="5467320" y="3349800"/>
            <a:ext cx="212760" cy="387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SMARTPenAnnotation320"/>
          <p:cNvSpPr/>
          <p:nvPr/>
        </p:nvSpPr>
        <p:spPr>
          <a:xfrm>
            <a:off x="5954760" y="3029040"/>
            <a:ext cx="74520" cy="915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MARTPenAnnotation321"/>
          <p:cNvSpPr/>
          <p:nvPr/>
        </p:nvSpPr>
        <p:spPr>
          <a:xfrm>
            <a:off x="6286680" y="3303720"/>
            <a:ext cx="307800" cy="353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SMARTPenAnnotation322"/>
          <p:cNvSpPr/>
          <p:nvPr/>
        </p:nvSpPr>
        <p:spPr>
          <a:xfrm>
            <a:off x="6389640" y="3336840"/>
            <a:ext cx="125640" cy="389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SMARTPenAnnotation323"/>
          <p:cNvSpPr/>
          <p:nvPr/>
        </p:nvSpPr>
        <p:spPr>
          <a:xfrm>
            <a:off x="6664320" y="3429000"/>
            <a:ext cx="204840" cy="34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MARTPenAnnotation324"/>
          <p:cNvSpPr/>
          <p:nvPr/>
        </p:nvSpPr>
        <p:spPr>
          <a:xfrm>
            <a:off x="6686640" y="3497400"/>
            <a:ext cx="171360" cy="41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MARTPenAnnotation325"/>
          <p:cNvSpPr/>
          <p:nvPr/>
        </p:nvSpPr>
        <p:spPr>
          <a:xfrm>
            <a:off x="6950160" y="3314880"/>
            <a:ext cx="108000" cy="320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SMARTPenAnnotation326"/>
          <p:cNvSpPr/>
          <p:nvPr/>
        </p:nvSpPr>
        <p:spPr>
          <a:xfrm>
            <a:off x="7097760" y="3222720"/>
            <a:ext cx="103320" cy="457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MARTPenAnnotation327"/>
          <p:cNvSpPr/>
          <p:nvPr/>
        </p:nvSpPr>
        <p:spPr>
          <a:xfrm>
            <a:off x="6915240" y="3097080"/>
            <a:ext cx="549360" cy="582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MARTPenAnnotation328"/>
          <p:cNvSpPr/>
          <p:nvPr/>
        </p:nvSpPr>
        <p:spPr>
          <a:xfrm>
            <a:off x="7543800" y="3611520"/>
            <a:ext cx="57240" cy="206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SMARTPenAnnotation329"/>
          <p:cNvSpPr/>
          <p:nvPr/>
        </p:nvSpPr>
        <p:spPr>
          <a:xfrm>
            <a:off x="7737480" y="3268800"/>
            <a:ext cx="206280" cy="274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MARTPenAnnotation330"/>
          <p:cNvSpPr/>
          <p:nvPr/>
        </p:nvSpPr>
        <p:spPr>
          <a:xfrm>
            <a:off x="7772400" y="3236760"/>
            <a:ext cx="171360" cy="317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MARTPenAnnotation331"/>
          <p:cNvSpPr/>
          <p:nvPr/>
        </p:nvSpPr>
        <p:spPr>
          <a:xfrm>
            <a:off x="8001000" y="3279600"/>
            <a:ext cx="263520" cy="46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MARTPenAnnotation332"/>
          <p:cNvSpPr/>
          <p:nvPr/>
        </p:nvSpPr>
        <p:spPr>
          <a:xfrm>
            <a:off x="8069400" y="3349800"/>
            <a:ext cx="252360" cy="42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MARTPenAnnotation333"/>
          <p:cNvSpPr/>
          <p:nvPr/>
        </p:nvSpPr>
        <p:spPr>
          <a:xfrm>
            <a:off x="8104320" y="3200400"/>
            <a:ext cx="46080" cy="378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MARTPenAnnotation334"/>
          <p:cNvSpPr/>
          <p:nvPr/>
        </p:nvSpPr>
        <p:spPr>
          <a:xfrm>
            <a:off x="8389800" y="3143160"/>
            <a:ext cx="217800" cy="343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MARTPenAnnotation335"/>
          <p:cNvSpPr/>
          <p:nvPr/>
        </p:nvSpPr>
        <p:spPr>
          <a:xfrm>
            <a:off x="8561520" y="2962440"/>
            <a:ext cx="226800" cy="717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Try this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domain and r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f(0) and f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ll x such that f(x)=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0" name="Object 4"/>
          <p:cNvGraphicFramePr/>
          <p:nvPr/>
        </p:nvGraphicFramePr>
        <p:xfrm>
          <a:off x="4648320" y="2057400"/>
          <a:ext cx="3882960" cy="38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3882960" cy="38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2" name="Object 5"/>
          <p:cNvGraphicFramePr/>
          <p:nvPr/>
        </p:nvGraphicFramePr>
        <p:xfrm>
          <a:off x="4648320" y="2057400"/>
          <a:ext cx="3959280" cy="397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057400"/>
                    <a:ext cx="3959280" cy="39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4" name="Group 32"/>
          <p:cNvGrpSpPr/>
          <p:nvPr/>
        </p:nvGrpSpPr>
        <p:grpSpPr>
          <a:xfrm>
            <a:off x="1692360" y="1146240"/>
            <a:ext cx="3771720" cy="671400"/>
            <a:chOff x="1692360" y="1146240"/>
            <a:chExt cx="3771720" cy="671400"/>
          </a:xfrm>
        </p:grpSpPr>
        <p:sp>
          <p:nvSpPr>
            <p:cNvPr id="775" name="SMARTPenAnnotation257"/>
            <p:cNvSpPr/>
            <p:nvPr/>
          </p:nvSpPr>
          <p:spPr>
            <a:xfrm>
              <a:off x="1771560" y="1257120"/>
              <a:ext cx="7920" cy="44604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SMARTPenAnnotation258"/>
            <p:cNvSpPr/>
            <p:nvPr/>
          </p:nvSpPr>
          <p:spPr>
            <a:xfrm>
              <a:off x="1692360" y="1247760"/>
              <a:ext cx="328320" cy="49068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SMARTPenAnnotation259"/>
            <p:cNvSpPr/>
            <p:nvPr/>
          </p:nvSpPr>
          <p:spPr>
            <a:xfrm>
              <a:off x="2127240" y="1417680"/>
              <a:ext cx="228600" cy="8064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SMARTPenAnnotation260"/>
            <p:cNvSpPr/>
            <p:nvPr/>
          </p:nvSpPr>
          <p:spPr>
            <a:xfrm>
              <a:off x="2127240" y="1521000"/>
              <a:ext cx="228600" cy="10296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SMARTPenAnnotation261"/>
            <p:cNvSpPr/>
            <p:nvPr/>
          </p:nvSpPr>
          <p:spPr>
            <a:xfrm>
              <a:off x="2643120" y="1146240"/>
              <a:ext cx="284040" cy="63648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SMARTPenAnnotation262"/>
            <p:cNvSpPr/>
            <p:nvPr/>
          </p:nvSpPr>
          <p:spPr>
            <a:xfrm>
              <a:off x="2949480" y="1417680"/>
              <a:ext cx="239400" cy="23976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SMARTPenAnnotation263"/>
            <p:cNvSpPr/>
            <p:nvPr/>
          </p:nvSpPr>
          <p:spPr>
            <a:xfrm>
              <a:off x="2914560" y="1417680"/>
              <a:ext cx="241200" cy="32076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SMARTPenAnnotation264"/>
            <p:cNvSpPr/>
            <p:nvPr/>
          </p:nvSpPr>
          <p:spPr>
            <a:xfrm>
              <a:off x="3406680" y="1235160"/>
              <a:ext cx="21960" cy="57168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SMARTPenAnnotation265"/>
            <p:cNvSpPr/>
            <p:nvPr/>
          </p:nvSpPr>
          <p:spPr>
            <a:xfrm>
              <a:off x="4218120" y="1384200"/>
              <a:ext cx="206280" cy="20484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SMARTPenAnnotation266"/>
            <p:cNvSpPr/>
            <p:nvPr/>
          </p:nvSpPr>
          <p:spPr>
            <a:xfrm>
              <a:off x="4149720" y="1428840"/>
              <a:ext cx="320400" cy="18252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SMARTPenAnnotation267"/>
            <p:cNvSpPr/>
            <p:nvPr/>
          </p:nvSpPr>
          <p:spPr>
            <a:xfrm>
              <a:off x="3841920" y="1406520"/>
              <a:ext cx="193680" cy="22860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SMARTPenAnnotation268"/>
            <p:cNvSpPr/>
            <p:nvPr/>
          </p:nvSpPr>
          <p:spPr>
            <a:xfrm>
              <a:off x="3795840" y="1738440"/>
              <a:ext cx="193680" cy="1080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SMARTPenAnnotation269"/>
            <p:cNvSpPr/>
            <p:nvPr/>
          </p:nvSpPr>
          <p:spPr>
            <a:xfrm>
              <a:off x="3521160" y="1589040"/>
              <a:ext cx="91800" cy="1080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SMARTPenAnnotation270"/>
            <p:cNvSpPr/>
            <p:nvPr/>
          </p:nvSpPr>
          <p:spPr>
            <a:xfrm>
              <a:off x="3624120" y="1486080"/>
              <a:ext cx="21960" cy="29664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SMARTPenAnnotation271"/>
            <p:cNvSpPr/>
            <p:nvPr/>
          </p:nvSpPr>
          <p:spPr>
            <a:xfrm>
              <a:off x="3705120" y="1509840"/>
              <a:ext cx="88560" cy="15876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SMARTPenAnnotation272"/>
            <p:cNvSpPr/>
            <p:nvPr/>
          </p:nvSpPr>
          <p:spPr>
            <a:xfrm>
              <a:off x="4573800" y="1452600"/>
              <a:ext cx="284040" cy="12528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SMARTPenAnnotation273"/>
            <p:cNvSpPr/>
            <p:nvPr/>
          </p:nvSpPr>
          <p:spPr>
            <a:xfrm>
              <a:off x="4527720" y="1692360"/>
              <a:ext cx="330120" cy="4572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SMARTPenAnnotation274"/>
            <p:cNvSpPr/>
            <p:nvPr/>
          </p:nvSpPr>
          <p:spPr>
            <a:xfrm>
              <a:off x="4950000" y="1384200"/>
              <a:ext cx="68040" cy="35388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SMARTPenAnnotation275"/>
            <p:cNvSpPr/>
            <p:nvPr/>
          </p:nvSpPr>
          <p:spPr>
            <a:xfrm>
              <a:off x="5099040" y="1463760"/>
              <a:ext cx="191880" cy="22680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SMARTPenAnnotation276"/>
            <p:cNvSpPr/>
            <p:nvPr/>
          </p:nvSpPr>
          <p:spPr>
            <a:xfrm>
              <a:off x="5200560" y="1292040"/>
              <a:ext cx="263520" cy="52560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Group 49"/>
          <p:cNvGrpSpPr/>
          <p:nvPr/>
        </p:nvGrpSpPr>
        <p:grpSpPr>
          <a:xfrm>
            <a:off x="2857680" y="2184480"/>
            <a:ext cx="3084480" cy="637920"/>
            <a:chOff x="2857680" y="2184480"/>
            <a:chExt cx="3084480" cy="637920"/>
          </a:xfrm>
        </p:grpSpPr>
        <p:sp>
          <p:nvSpPr>
            <p:cNvPr id="796" name="SMARTPenAnnotation277"/>
            <p:cNvSpPr/>
            <p:nvPr/>
          </p:nvSpPr>
          <p:spPr>
            <a:xfrm>
              <a:off x="2857680" y="2241360"/>
              <a:ext cx="239400" cy="409320"/>
            </a:xfrm>
            <a:prstGeom prst="pie">
              <a:avLst/>
            </a:prstGeom>
            <a:noFill/>
            <a:ln w="38160">
              <a:solidFill>
                <a:srgbClr val="009d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SMARTPenAnnotation278"/>
            <p:cNvSpPr/>
            <p:nvPr/>
          </p:nvSpPr>
          <p:spPr>
            <a:xfrm>
              <a:off x="3108240" y="2492280"/>
              <a:ext cx="149040" cy="33120"/>
            </a:xfrm>
            <a:prstGeom prst="pie">
              <a:avLst/>
            </a:prstGeom>
            <a:noFill/>
            <a:ln w="38160">
              <a:solidFill>
                <a:srgbClr val="009d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SMARTPenAnnotation279"/>
            <p:cNvSpPr/>
            <p:nvPr/>
          </p:nvSpPr>
          <p:spPr>
            <a:xfrm>
              <a:off x="3143160" y="2571840"/>
              <a:ext cx="102960" cy="10800"/>
            </a:xfrm>
            <a:prstGeom prst="pie">
              <a:avLst/>
            </a:prstGeom>
            <a:noFill/>
            <a:ln w="38160">
              <a:solidFill>
                <a:srgbClr val="009d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SMARTPenAnnotation280"/>
            <p:cNvSpPr/>
            <p:nvPr/>
          </p:nvSpPr>
          <p:spPr>
            <a:xfrm>
              <a:off x="3336840" y="2184480"/>
              <a:ext cx="228600" cy="523800"/>
            </a:xfrm>
            <a:prstGeom prst="pie">
              <a:avLst/>
            </a:prstGeom>
            <a:noFill/>
            <a:ln w="38160">
              <a:solidFill>
                <a:srgbClr val="009d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SMARTPenAnnotation281"/>
            <p:cNvSpPr/>
            <p:nvPr/>
          </p:nvSpPr>
          <p:spPr>
            <a:xfrm>
              <a:off x="3511440" y="2419200"/>
              <a:ext cx="190440" cy="357120"/>
            </a:xfrm>
            <a:prstGeom prst="pie">
              <a:avLst/>
            </a:prstGeom>
            <a:noFill/>
            <a:ln w="38160">
              <a:solidFill>
                <a:srgbClr val="009d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SMARTPenAnnotation282"/>
            <p:cNvSpPr/>
            <p:nvPr/>
          </p:nvSpPr>
          <p:spPr>
            <a:xfrm>
              <a:off x="3783240" y="2217600"/>
              <a:ext cx="34920" cy="490320"/>
            </a:xfrm>
            <a:prstGeom prst="pie">
              <a:avLst/>
            </a:prstGeom>
            <a:noFill/>
            <a:ln w="38160">
              <a:solidFill>
                <a:srgbClr val="009d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SMARTPenAnnotation283"/>
            <p:cNvSpPr/>
            <p:nvPr/>
          </p:nvSpPr>
          <p:spPr>
            <a:xfrm>
              <a:off x="3954600" y="2479680"/>
              <a:ext cx="149040" cy="23760"/>
            </a:xfrm>
            <a:prstGeom prst="pie">
              <a:avLst/>
            </a:prstGeom>
            <a:noFill/>
            <a:ln w="38160">
              <a:solidFill>
                <a:srgbClr val="009d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SMARTPenAnnotation284"/>
            <p:cNvSpPr/>
            <p:nvPr/>
          </p:nvSpPr>
          <p:spPr>
            <a:xfrm>
              <a:off x="4172040" y="2286000"/>
              <a:ext cx="187200" cy="274680"/>
            </a:xfrm>
            <a:prstGeom prst="pie">
              <a:avLst/>
            </a:prstGeom>
            <a:noFill/>
            <a:ln w="38160">
              <a:solidFill>
                <a:srgbClr val="009d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SMARTPenAnnotation285"/>
            <p:cNvSpPr/>
            <p:nvPr/>
          </p:nvSpPr>
          <p:spPr>
            <a:xfrm>
              <a:off x="4424400" y="2311200"/>
              <a:ext cx="215640" cy="191880"/>
            </a:xfrm>
            <a:prstGeom prst="pie">
              <a:avLst/>
            </a:prstGeom>
            <a:noFill/>
            <a:ln w="38160">
              <a:solidFill>
                <a:srgbClr val="009d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SMARTPenAnnotation286"/>
            <p:cNvSpPr/>
            <p:nvPr/>
          </p:nvSpPr>
          <p:spPr>
            <a:xfrm>
              <a:off x="4400640" y="2583000"/>
              <a:ext cx="285480" cy="34920"/>
            </a:xfrm>
            <a:prstGeom prst="pie">
              <a:avLst/>
            </a:prstGeom>
            <a:noFill/>
            <a:ln w="38160">
              <a:solidFill>
                <a:srgbClr val="009d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SMARTPenAnnotation287"/>
            <p:cNvSpPr/>
            <p:nvPr/>
          </p:nvSpPr>
          <p:spPr>
            <a:xfrm>
              <a:off x="4583160" y="2396880"/>
              <a:ext cx="355320" cy="425520"/>
            </a:xfrm>
            <a:prstGeom prst="pie">
              <a:avLst/>
            </a:prstGeom>
            <a:noFill/>
            <a:ln w="38160">
              <a:solidFill>
                <a:srgbClr val="009d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SMARTPenAnnotation288"/>
            <p:cNvSpPr/>
            <p:nvPr/>
          </p:nvSpPr>
          <p:spPr>
            <a:xfrm>
              <a:off x="5043600" y="2378160"/>
              <a:ext cx="284040" cy="112680"/>
            </a:xfrm>
            <a:prstGeom prst="pie">
              <a:avLst/>
            </a:prstGeom>
            <a:noFill/>
            <a:ln w="38160">
              <a:solidFill>
                <a:srgbClr val="009d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SMARTPenAnnotation289"/>
            <p:cNvSpPr/>
            <p:nvPr/>
          </p:nvSpPr>
          <p:spPr>
            <a:xfrm>
              <a:off x="5053320" y="2571840"/>
              <a:ext cx="274320" cy="34920"/>
            </a:xfrm>
            <a:prstGeom prst="pie">
              <a:avLst/>
            </a:prstGeom>
            <a:noFill/>
            <a:ln w="38160">
              <a:solidFill>
                <a:srgbClr val="009d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SMARTPenAnnotation290"/>
            <p:cNvSpPr/>
            <p:nvPr/>
          </p:nvSpPr>
          <p:spPr>
            <a:xfrm>
              <a:off x="5418360" y="2274840"/>
              <a:ext cx="291960" cy="342720"/>
            </a:xfrm>
            <a:prstGeom prst="pie">
              <a:avLst/>
            </a:prstGeom>
            <a:noFill/>
            <a:ln w="38160">
              <a:solidFill>
                <a:srgbClr val="009d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SMARTPenAnnotation291"/>
            <p:cNvSpPr/>
            <p:nvPr/>
          </p:nvSpPr>
          <p:spPr>
            <a:xfrm>
              <a:off x="5624640" y="2276280"/>
              <a:ext cx="317520" cy="511200"/>
            </a:xfrm>
            <a:prstGeom prst="pie">
              <a:avLst/>
            </a:prstGeom>
            <a:noFill/>
            <a:ln w="38160">
              <a:solidFill>
                <a:srgbClr val="009d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Group 70"/>
          <p:cNvGrpSpPr/>
          <p:nvPr/>
        </p:nvGrpSpPr>
        <p:grpSpPr>
          <a:xfrm>
            <a:off x="6915240" y="4389480"/>
            <a:ext cx="1663560" cy="1404720"/>
            <a:chOff x="6915240" y="4389480"/>
            <a:chExt cx="1663560" cy="1404720"/>
          </a:xfrm>
        </p:grpSpPr>
        <p:sp>
          <p:nvSpPr>
            <p:cNvPr id="812" name="SMARTPenAnnotation292"/>
            <p:cNvSpPr/>
            <p:nvPr/>
          </p:nvSpPr>
          <p:spPr>
            <a:xfrm>
              <a:off x="7165800" y="4402080"/>
              <a:ext cx="160200" cy="59184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SMARTPenAnnotation293"/>
            <p:cNvSpPr/>
            <p:nvPr/>
          </p:nvSpPr>
          <p:spPr>
            <a:xfrm>
              <a:off x="6972120" y="4789440"/>
              <a:ext cx="285480" cy="2196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SMARTPenAnnotation294"/>
            <p:cNvSpPr/>
            <p:nvPr/>
          </p:nvSpPr>
          <p:spPr>
            <a:xfrm>
              <a:off x="7329600" y="4462200"/>
              <a:ext cx="134640" cy="43020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SMARTPenAnnotation295"/>
            <p:cNvSpPr/>
            <p:nvPr/>
          </p:nvSpPr>
          <p:spPr>
            <a:xfrm>
              <a:off x="7488360" y="4554360"/>
              <a:ext cx="88560" cy="27756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SMARTPenAnnotation296"/>
            <p:cNvSpPr/>
            <p:nvPr/>
          </p:nvSpPr>
          <p:spPr>
            <a:xfrm>
              <a:off x="7566120" y="4389480"/>
              <a:ext cx="201600" cy="52524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SMARTPenAnnotation297"/>
            <p:cNvSpPr/>
            <p:nvPr/>
          </p:nvSpPr>
          <p:spPr>
            <a:xfrm>
              <a:off x="7064280" y="4765680"/>
              <a:ext cx="261720" cy="3312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SMARTPenAnnotation298"/>
            <p:cNvSpPr/>
            <p:nvPr/>
          </p:nvSpPr>
          <p:spPr>
            <a:xfrm>
              <a:off x="7886880" y="4608360"/>
              <a:ext cx="114120" cy="2052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SMARTPenAnnotation299"/>
            <p:cNvSpPr/>
            <p:nvPr/>
          </p:nvSpPr>
          <p:spPr>
            <a:xfrm>
              <a:off x="7864560" y="4708440"/>
              <a:ext cx="182520" cy="1260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SMARTPenAnnotation300"/>
            <p:cNvSpPr/>
            <p:nvPr/>
          </p:nvSpPr>
          <p:spPr>
            <a:xfrm>
              <a:off x="8161560" y="4618080"/>
              <a:ext cx="125280" cy="1080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SMARTPenAnnotation301"/>
            <p:cNvSpPr/>
            <p:nvPr/>
          </p:nvSpPr>
          <p:spPr>
            <a:xfrm>
              <a:off x="8286840" y="4389480"/>
              <a:ext cx="291960" cy="37440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SMARTPenAnnotation302"/>
            <p:cNvSpPr/>
            <p:nvPr/>
          </p:nvSpPr>
          <p:spPr>
            <a:xfrm>
              <a:off x="7040520" y="5227560"/>
              <a:ext cx="171360" cy="56664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SMARTPenAnnotation303"/>
            <p:cNvSpPr/>
            <p:nvPr/>
          </p:nvSpPr>
          <p:spPr>
            <a:xfrm>
              <a:off x="6915240" y="5587920"/>
              <a:ext cx="296640" cy="6984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SMARTPenAnnotation304"/>
            <p:cNvSpPr/>
            <p:nvPr/>
          </p:nvSpPr>
          <p:spPr>
            <a:xfrm>
              <a:off x="7315200" y="5165640"/>
              <a:ext cx="125280" cy="47772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SMARTPenAnnotation305"/>
            <p:cNvSpPr/>
            <p:nvPr/>
          </p:nvSpPr>
          <p:spPr>
            <a:xfrm>
              <a:off x="7418520" y="5361120"/>
              <a:ext cx="193680" cy="23148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SMARTPenAnnotation306"/>
            <p:cNvSpPr/>
            <p:nvPr/>
          </p:nvSpPr>
          <p:spPr>
            <a:xfrm>
              <a:off x="7554960" y="5189400"/>
              <a:ext cx="193680" cy="43308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SMARTPenAnnotation307"/>
            <p:cNvSpPr/>
            <p:nvPr/>
          </p:nvSpPr>
          <p:spPr>
            <a:xfrm>
              <a:off x="7840800" y="5189400"/>
              <a:ext cx="228600" cy="6804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SMARTPenAnnotation308"/>
            <p:cNvSpPr/>
            <p:nvPr/>
          </p:nvSpPr>
          <p:spPr>
            <a:xfrm>
              <a:off x="7897680" y="5280120"/>
              <a:ext cx="217440" cy="6804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SMARTPenAnnotation309"/>
            <p:cNvSpPr/>
            <p:nvPr/>
          </p:nvSpPr>
          <p:spPr>
            <a:xfrm>
              <a:off x="8194680" y="5040360"/>
              <a:ext cx="252360" cy="39996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SMARTPenAnnotation310"/>
            <p:cNvSpPr/>
            <p:nvPr/>
          </p:nvSpPr>
          <p:spPr>
            <a:xfrm>
              <a:off x="8093160" y="5211720"/>
              <a:ext cx="90360" cy="21960"/>
            </a:xfrm>
            <a:prstGeom prst="pie">
              <a:avLst/>
            </a:pr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2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Your assignment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42-4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20-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53-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63-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MARTPenAnnotation609"/>
          <p:cNvSpPr/>
          <p:nvPr/>
        </p:nvSpPr>
        <p:spPr>
          <a:xfrm>
            <a:off x="1978200" y="892080"/>
            <a:ext cx="21960" cy="594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MARTPenAnnotation610"/>
          <p:cNvSpPr/>
          <p:nvPr/>
        </p:nvSpPr>
        <p:spPr>
          <a:xfrm>
            <a:off x="2139840" y="870120"/>
            <a:ext cx="271440" cy="645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MARTPenAnnotation611"/>
          <p:cNvSpPr/>
          <p:nvPr/>
        </p:nvSpPr>
        <p:spPr>
          <a:xfrm>
            <a:off x="2606760" y="892080"/>
            <a:ext cx="282600" cy="558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MARTPenAnnotation612"/>
          <p:cNvSpPr/>
          <p:nvPr/>
        </p:nvSpPr>
        <p:spPr>
          <a:xfrm>
            <a:off x="2962440" y="914400"/>
            <a:ext cx="430200" cy="525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MARTPenAnnotation613"/>
          <p:cNvSpPr/>
          <p:nvPr/>
        </p:nvSpPr>
        <p:spPr>
          <a:xfrm>
            <a:off x="1890720" y="2068560"/>
            <a:ext cx="74520" cy="595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MARTPenAnnotation614"/>
          <p:cNvSpPr/>
          <p:nvPr/>
        </p:nvSpPr>
        <p:spPr>
          <a:xfrm>
            <a:off x="2173320" y="2023920"/>
            <a:ext cx="284040" cy="684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MARTPenAnnotation615"/>
          <p:cNvSpPr/>
          <p:nvPr/>
        </p:nvSpPr>
        <p:spPr>
          <a:xfrm>
            <a:off x="2813040" y="2022480"/>
            <a:ext cx="262080" cy="606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MARTPenAnnotation616"/>
          <p:cNvSpPr/>
          <p:nvPr/>
        </p:nvSpPr>
        <p:spPr>
          <a:xfrm>
            <a:off x="3268800" y="1965240"/>
            <a:ext cx="388800" cy="538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MARTPenAnnotation617"/>
          <p:cNvSpPr/>
          <p:nvPr/>
        </p:nvSpPr>
        <p:spPr>
          <a:xfrm>
            <a:off x="2011320" y="3097080"/>
            <a:ext cx="57240" cy="638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MARTPenAnnotation618"/>
          <p:cNvSpPr/>
          <p:nvPr/>
        </p:nvSpPr>
        <p:spPr>
          <a:xfrm>
            <a:off x="2243160" y="3121200"/>
            <a:ext cx="328680" cy="663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MARTPenAnnotation619"/>
          <p:cNvSpPr/>
          <p:nvPr/>
        </p:nvSpPr>
        <p:spPr>
          <a:xfrm>
            <a:off x="2916360" y="3132000"/>
            <a:ext cx="272880" cy="582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MARTPenAnnotation620"/>
          <p:cNvSpPr/>
          <p:nvPr/>
        </p:nvSpPr>
        <p:spPr>
          <a:xfrm>
            <a:off x="3279600" y="3075120"/>
            <a:ext cx="320760" cy="560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MARTPenAnnotation621"/>
          <p:cNvSpPr/>
          <p:nvPr/>
        </p:nvSpPr>
        <p:spPr>
          <a:xfrm>
            <a:off x="4297320" y="646200"/>
            <a:ext cx="318960" cy="600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MARTPenAnnotation622"/>
          <p:cNvSpPr/>
          <p:nvPr/>
        </p:nvSpPr>
        <p:spPr>
          <a:xfrm>
            <a:off x="4619520" y="708120"/>
            <a:ext cx="238320" cy="434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MARTPenAnnotation623"/>
          <p:cNvSpPr/>
          <p:nvPr/>
        </p:nvSpPr>
        <p:spPr>
          <a:xfrm>
            <a:off x="4840200" y="606600"/>
            <a:ext cx="428760" cy="653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MARTPenAnnotation624"/>
          <p:cNvSpPr/>
          <p:nvPr/>
        </p:nvSpPr>
        <p:spPr>
          <a:xfrm>
            <a:off x="5156280" y="1211400"/>
            <a:ext cx="9360" cy="114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MARTPenAnnotation625"/>
          <p:cNvSpPr/>
          <p:nvPr/>
        </p:nvSpPr>
        <p:spPr>
          <a:xfrm>
            <a:off x="5349960" y="731880"/>
            <a:ext cx="193680" cy="468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MARTPenAnnotation626"/>
          <p:cNvSpPr/>
          <p:nvPr/>
        </p:nvSpPr>
        <p:spPr>
          <a:xfrm>
            <a:off x="5611680" y="736560"/>
            <a:ext cx="320760" cy="480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MARTPenAnnotation627"/>
          <p:cNvSpPr/>
          <p:nvPr/>
        </p:nvSpPr>
        <p:spPr>
          <a:xfrm>
            <a:off x="5978520" y="725400"/>
            <a:ext cx="57240" cy="536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MARTPenAnnotation628"/>
          <p:cNvSpPr/>
          <p:nvPr/>
        </p:nvSpPr>
        <p:spPr>
          <a:xfrm>
            <a:off x="4172040" y="1714680"/>
            <a:ext cx="377640" cy="2505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MARTPenAnnotation629"/>
          <p:cNvSpPr/>
          <p:nvPr/>
        </p:nvSpPr>
        <p:spPr>
          <a:xfrm>
            <a:off x="4468680" y="1703520"/>
            <a:ext cx="24120" cy="536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MARTPenAnnotation630"/>
          <p:cNvSpPr/>
          <p:nvPr/>
        </p:nvSpPr>
        <p:spPr>
          <a:xfrm>
            <a:off x="4697280" y="1806480"/>
            <a:ext cx="274680" cy="387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MARTPenAnnotation631"/>
          <p:cNvSpPr/>
          <p:nvPr/>
        </p:nvSpPr>
        <p:spPr>
          <a:xfrm>
            <a:off x="5046840" y="1736640"/>
            <a:ext cx="323640" cy="412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MARTPenAnnotation632"/>
          <p:cNvSpPr/>
          <p:nvPr/>
        </p:nvSpPr>
        <p:spPr>
          <a:xfrm>
            <a:off x="5394240" y="2103480"/>
            <a:ext cx="19080" cy="136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MARTPenAnnotation633"/>
          <p:cNvSpPr/>
          <p:nvPr/>
        </p:nvSpPr>
        <p:spPr>
          <a:xfrm>
            <a:off x="5500800" y="1793880"/>
            <a:ext cx="177840" cy="378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MARTPenAnnotation634"/>
          <p:cNvSpPr/>
          <p:nvPr/>
        </p:nvSpPr>
        <p:spPr>
          <a:xfrm>
            <a:off x="5761080" y="1760400"/>
            <a:ext cx="169920" cy="365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MARTPenAnnotation635"/>
          <p:cNvSpPr/>
          <p:nvPr/>
        </p:nvSpPr>
        <p:spPr>
          <a:xfrm>
            <a:off x="5921280" y="1760400"/>
            <a:ext cx="314280" cy="374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MARTPenAnnotation636"/>
          <p:cNvSpPr/>
          <p:nvPr/>
        </p:nvSpPr>
        <p:spPr>
          <a:xfrm>
            <a:off x="4971960" y="3143160"/>
            <a:ext cx="79560" cy="650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MARTPenAnnotation637"/>
          <p:cNvSpPr/>
          <p:nvPr/>
        </p:nvSpPr>
        <p:spPr>
          <a:xfrm>
            <a:off x="4846680" y="3111480"/>
            <a:ext cx="382680" cy="291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MARTPenAnnotation638"/>
          <p:cNvSpPr/>
          <p:nvPr/>
        </p:nvSpPr>
        <p:spPr>
          <a:xfrm>
            <a:off x="2641680" y="149400"/>
            <a:ext cx="284040" cy="387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MARTPenAnnotation639"/>
          <p:cNvSpPr/>
          <p:nvPr/>
        </p:nvSpPr>
        <p:spPr>
          <a:xfrm>
            <a:off x="2606760" y="114480"/>
            <a:ext cx="387360" cy="549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MARTPenAnnotation640"/>
          <p:cNvSpPr/>
          <p:nvPr/>
        </p:nvSpPr>
        <p:spPr>
          <a:xfrm>
            <a:off x="4675320" y="88920"/>
            <a:ext cx="365040" cy="379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MARTPenAnnotation641"/>
          <p:cNvSpPr/>
          <p:nvPr/>
        </p:nvSpPr>
        <p:spPr>
          <a:xfrm>
            <a:off x="4411800" y="4206960"/>
            <a:ext cx="91800" cy="501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MARTPenAnnotation642"/>
          <p:cNvSpPr/>
          <p:nvPr/>
        </p:nvSpPr>
        <p:spPr>
          <a:xfrm>
            <a:off x="4378320" y="4114800"/>
            <a:ext cx="295200" cy="263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MARTPenAnnotation643"/>
          <p:cNvSpPr/>
          <p:nvPr/>
        </p:nvSpPr>
        <p:spPr>
          <a:xfrm>
            <a:off x="4846680" y="4206960"/>
            <a:ext cx="318960" cy="44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MARTPenAnnotation644"/>
          <p:cNvSpPr/>
          <p:nvPr/>
        </p:nvSpPr>
        <p:spPr>
          <a:xfrm>
            <a:off x="4984920" y="4125960"/>
            <a:ext cx="55440" cy="331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MARTPenAnnotation645"/>
          <p:cNvSpPr/>
          <p:nvPr/>
        </p:nvSpPr>
        <p:spPr>
          <a:xfrm>
            <a:off x="5303880" y="3921120"/>
            <a:ext cx="239760" cy="444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MARTPenAnnotation646"/>
          <p:cNvSpPr/>
          <p:nvPr/>
        </p:nvSpPr>
        <p:spPr>
          <a:xfrm>
            <a:off x="5589720" y="3971880"/>
            <a:ext cx="101520" cy="28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MARTPenAnnotation647"/>
          <p:cNvSpPr/>
          <p:nvPr/>
        </p:nvSpPr>
        <p:spPr>
          <a:xfrm>
            <a:off x="5657760" y="4229280"/>
            <a:ext cx="68400" cy="79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MARTPenAnnotation648"/>
          <p:cNvSpPr/>
          <p:nvPr/>
        </p:nvSpPr>
        <p:spPr>
          <a:xfrm>
            <a:off x="5829480" y="4264200"/>
            <a:ext cx="10800" cy="10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MARTPenAnnotation649"/>
          <p:cNvSpPr/>
          <p:nvPr/>
        </p:nvSpPr>
        <p:spPr>
          <a:xfrm>
            <a:off x="5554800" y="3944880"/>
            <a:ext cx="399960" cy="363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MARTPenAnnotation650"/>
          <p:cNvSpPr/>
          <p:nvPr/>
        </p:nvSpPr>
        <p:spPr>
          <a:xfrm>
            <a:off x="5910120" y="3863880"/>
            <a:ext cx="227160" cy="468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MARTPenAnnotation651"/>
          <p:cNvSpPr/>
          <p:nvPr/>
        </p:nvSpPr>
        <p:spPr>
          <a:xfrm>
            <a:off x="6218280" y="4297320"/>
            <a:ext cx="11160" cy="1605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MARTPenAnnotation652"/>
          <p:cNvSpPr/>
          <p:nvPr/>
        </p:nvSpPr>
        <p:spPr>
          <a:xfrm>
            <a:off x="6297480" y="3897360"/>
            <a:ext cx="182520" cy="420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MARTPenAnnotation653"/>
          <p:cNvSpPr/>
          <p:nvPr/>
        </p:nvSpPr>
        <p:spPr>
          <a:xfrm>
            <a:off x="6550200" y="3886200"/>
            <a:ext cx="193680" cy="388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MARTPenAnnotation654"/>
          <p:cNvSpPr/>
          <p:nvPr/>
        </p:nvSpPr>
        <p:spPr>
          <a:xfrm>
            <a:off x="6823080" y="3875040"/>
            <a:ext cx="23760" cy="422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MARTPenAnnotation655"/>
          <p:cNvSpPr/>
          <p:nvPr/>
        </p:nvSpPr>
        <p:spPr>
          <a:xfrm>
            <a:off x="4092480" y="4321080"/>
            <a:ext cx="2998800" cy="330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MARTPenAnnotation656"/>
          <p:cNvSpPr/>
          <p:nvPr/>
        </p:nvSpPr>
        <p:spPr>
          <a:xfrm>
            <a:off x="5411880" y="4711680"/>
            <a:ext cx="291960" cy="260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MARTPenAnnotation657"/>
          <p:cNvSpPr/>
          <p:nvPr/>
        </p:nvSpPr>
        <p:spPr>
          <a:xfrm>
            <a:off x="7211880" y="4125960"/>
            <a:ext cx="217800" cy="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MARTPenAnnotation658"/>
          <p:cNvSpPr/>
          <p:nvPr/>
        </p:nvSpPr>
        <p:spPr>
          <a:xfrm>
            <a:off x="7223040" y="4264200"/>
            <a:ext cx="274680" cy="44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MARTPenAnnotation659"/>
          <p:cNvSpPr/>
          <p:nvPr/>
        </p:nvSpPr>
        <p:spPr>
          <a:xfrm>
            <a:off x="7629480" y="3954600"/>
            <a:ext cx="222120" cy="206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MARTPenAnnotation660"/>
          <p:cNvSpPr/>
          <p:nvPr/>
        </p:nvSpPr>
        <p:spPr>
          <a:xfrm>
            <a:off x="7751880" y="3943440"/>
            <a:ext cx="31680" cy="422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MARTPenAnnotation661"/>
          <p:cNvSpPr/>
          <p:nvPr/>
        </p:nvSpPr>
        <p:spPr>
          <a:xfrm>
            <a:off x="7840800" y="3843360"/>
            <a:ext cx="160200" cy="417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MARTPenAnnotation662"/>
          <p:cNvSpPr/>
          <p:nvPr/>
        </p:nvSpPr>
        <p:spPr>
          <a:xfrm>
            <a:off x="8093160" y="3794040"/>
            <a:ext cx="177840" cy="399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MARTPenAnnotation663"/>
          <p:cNvSpPr/>
          <p:nvPr/>
        </p:nvSpPr>
        <p:spPr>
          <a:xfrm>
            <a:off x="8344080" y="4103640"/>
            <a:ext cx="34920" cy="182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MARTPenAnnotation664"/>
          <p:cNvSpPr/>
          <p:nvPr/>
        </p:nvSpPr>
        <p:spPr>
          <a:xfrm>
            <a:off x="8483760" y="3828960"/>
            <a:ext cx="156960" cy="443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MARTPenAnnotation665"/>
          <p:cNvSpPr/>
          <p:nvPr/>
        </p:nvSpPr>
        <p:spPr>
          <a:xfrm>
            <a:off x="8744040" y="3794040"/>
            <a:ext cx="136440" cy="457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MARTPenAnnotation666"/>
          <p:cNvSpPr/>
          <p:nvPr/>
        </p:nvSpPr>
        <p:spPr>
          <a:xfrm>
            <a:off x="8994600" y="3794040"/>
            <a:ext cx="138240" cy="435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61"/>
          <p:cNvSpPr/>
          <p:nvPr/>
        </p:nvSpPr>
        <p:spPr>
          <a:xfrm>
            <a:off x="838080" y="914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SMARTPenAnnotation595"/>
          <p:cNvSpPr/>
          <p:nvPr/>
        </p:nvSpPr>
        <p:spPr>
          <a:xfrm>
            <a:off x="5418000" y="1325520"/>
            <a:ext cx="468360" cy="376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MARTPenAnnotation596"/>
          <p:cNvSpPr/>
          <p:nvPr/>
        </p:nvSpPr>
        <p:spPr>
          <a:xfrm>
            <a:off x="7559640" y="1050840"/>
            <a:ext cx="246240" cy="615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MARTPenAnnotation597"/>
          <p:cNvSpPr/>
          <p:nvPr/>
        </p:nvSpPr>
        <p:spPr>
          <a:xfrm>
            <a:off x="5875200" y="1371600"/>
            <a:ext cx="308160" cy="34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MARTPenAnnotation598"/>
          <p:cNvSpPr/>
          <p:nvPr/>
        </p:nvSpPr>
        <p:spPr>
          <a:xfrm>
            <a:off x="5943600" y="1474920"/>
            <a:ext cx="239760" cy="55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MARTPenAnnotation599"/>
          <p:cNvSpPr/>
          <p:nvPr/>
        </p:nvSpPr>
        <p:spPr>
          <a:xfrm>
            <a:off x="6332400" y="1165320"/>
            <a:ext cx="79560" cy="509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MARTPenAnnotation600"/>
          <p:cNvSpPr/>
          <p:nvPr/>
        </p:nvSpPr>
        <p:spPr>
          <a:xfrm>
            <a:off x="7908840" y="1382760"/>
            <a:ext cx="228600" cy="22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MARTPenAnnotation601"/>
          <p:cNvSpPr/>
          <p:nvPr/>
        </p:nvSpPr>
        <p:spPr>
          <a:xfrm>
            <a:off x="7908840" y="1474920"/>
            <a:ext cx="241560" cy="55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MARTPenAnnotation602"/>
          <p:cNvSpPr/>
          <p:nvPr/>
        </p:nvSpPr>
        <p:spPr>
          <a:xfrm>
            <a:off x="8308800" y="1193760"/>
            <a:ext cx="309600" cy="406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MARTPenAnnotation603"/>
          <p:cNvSpPr/>
          <p:nvPr/>
        </p:nvSpPr>
        <p:spPr>
          <a:xfrm>
            <a:off x="6022800" y="2320920"/>
            <a:ext cx="400320" cy="365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MARTPenAnnotation604"/>
          <p:cNvSpPr/>
          <p:nvPr/>
        </p:nvSpPr>
        <p:spPr>
          <a:xfrm>
            <a:off x="6515280" y="2492280"/>
            <a:ext cx="263520" cy="223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MARTPenAnnotation605"/>
          <p:cNvSpPr/>
          <p:nvPr/>
        </p:nvSpPr>
        <p:spPr>
          <a:xfrm>
            <a:off x="6594480" y="2354400"/>
            <a:ext cx="57240" cy="309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MARTPenAnnotation606"/>
          <p:cNvSpPr/>
          <p:nvPr/>
        </p:nvSpPr>
        <p:spPr>
          <a:xfrm>
            <a:off x="6800760" y="2217600"/>
            <a:ext cx="293760" cy="457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MARTPenAnnotation607"/>
          <p:cNvSpPr/>
          <p:nvPr/>
        </p:nvSpPr>
        <p:spPr>
          <a:xfrm>
            <a:off x="6022800" y="2835360"/>
            <a:ext cx="1292400" cy="442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MARTPenAnnotation608"/>
          <p:cNvSpPr/>
          <p:nvPr/>
        </p:nvSpPr>
        <p:spPr>
          <a:xfrm>
            <a:off x="6475320" y="2982960"/>
            <a:ext cx="360360" cy="3636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15"/>
          <p:cNvSpPr/>
          <p:nvPr/>
        </p:nvSpPr>
        <p:spPr>
          <a:xfrm>
            <a:off x="1066680" y="1295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SMARTPenAnnotation443"/>
          <p:cNvSpPr/>
          <p:nvPr/>
        </p:nvSpPr>
        <p:spPr>
          <a:xfrm>
            <a:off x="1419120" y="379440"/>
            <a:ext cx="227160" cy="807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MARTPenAnnotation444"/>
          <p:cNvSpPr/>
          <p:nvPr/>
        </p:nvSpPr>
        <p:spPr>
          <a:xfrm>
            <a:off x="1727280" y="446040"/>
            <a:ext cx="204840" cy="593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MARTPenAnnotation445"/>
          <p:cNvSpPr/>
          <p:nvPr/>
        </p:nvSpPr>
        <p:spPr>
          <a:xfrm>
            <a:off x="1955880" y="561960"/>
            <a:ext cx="237960" cy="393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MARTPenAnnotation446"/>
          <p:cNvSpPr/>
          <p:nvPr/>
        </p:nvSpPr>
        <p:spPr>
          <a:xfrm>
            <a:off x="2297160" y="879480"/>
            <a:ext cx="11160" cy="149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MARTPenAnnotation447"/>
          <p:cNvSpPr/>
          <p:nvPr/>
        </p:nvSpPr>
        <p:spPr>
          <a:xfrm>
            <a:off x="2400480" y="582480"/>
            <a:ext cx="239400" cy="363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MARTPenAnnotation448"/>
          <p:cNvSpPr/>
          <p:nvPr/>
        </p:nvSpPr>
        <p:spPr>
          <a:xfrm>
            <a:off x="2651040" y="468360"/>
            <a:ext cx="228600" cy="549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MARTPenAnnotation449"/>
          <p:cNvSpPr/>
          <p:nvPr/>
        </p:nvSpPr>
        <p:spPr>
          <a:xfrm>
            <a:off x="2925720" y="925560"/>
            <a:ext cx="46080" cy="125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MARTPenAnnotation450"/>
          <p:cNvSpPr/>
          <p:nvPr/>
        </p:nvSpPr>
        <p:spPr>
          <a:xfrm>
            <a:off x="3160800" y="422280"/>
            <a:ext cx="164880" cy="571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MARTPenAnnotation451"/>
          <p:cNvSpPr/>
          <p:nvPr/>
        </p:nvSpPr>
        <p:spPr>
          <a:xfrm>
            <a:off x="3336840" y="765000"/>
            <a:ext cx="149400" cy="24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MARTPenAnnotation452"/>
          <p:cNvSpPr/>
          <p:nvPr/>
        </p:nvSpPr>
        <p:spPr>
          <a:xfrm>
            <a:off x="3565440" y="423720"/>
            <a:ext cx="239760" cy="525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MARTPenAnnotation453"/>
          <p:cNvSpPr/>
          <p:nvPr/>
        </p:nvSpPr>
        <p:spPr>
          <a:xfrm>
            <a:off x="3863880" y="892080"/>
            <a:ext cx="31680" cy="158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MARTPenAnnotation454"/>
          <p:cNvSpPr/>
          <p:nvPr/>
        </p:nvSpPr>
        <p:spPr>
          <a:xfrm>
            <a:off x="3989520" y="536400"/>
            <a:ext cx="21960" cy="366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MARTPenAnnotation455"/>
          <p:cNvSpPr/>
          <p:nvPr/>
        </p:nvSpPr>
        <p:spPr>
          <a:xfrm>
            <a:off x="3978360" y="369720"/>
            <a:ext cx="169920" cy="636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MARTPenAnnotation456"/>
          <p:cNvSpPr/>
          <p:nvPr/>
        </p:nvSpPr>
        <p:spPr>
          <a:xfrm>
            <a:off x="4275000" y="971640"/>
            <a:ext cx="46080" cy="217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MARTPenAnnotation457"/>
          <p:cNvSpPr/>
          <p:nvPr/>
        </p:nvSpPr>
        <p:spPr>
          <a:xfrm>
            <a:off x="4475160" y="297000"/>
            <a:ext cx="119160" cy="777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MARTPenAnnotation458"/>
          <p:cNvSpPr/>
          <p:nvPr/>
        </p:nvSpPr>
        <p:spPr>
          <a:xfrm>
            <a:off x="4594320" y="789120"/>
            <a:ext cx="160200" cy="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MARTPenAnnotation459"/>
          <p:cNvSpPr/>
          <p:nvPr/>
        </p:nvSpPr>
        <p:spPr>
          <a:xfrm>
            <a:off x="4915080" y="468360"/>
            <a:ext cx="217440" cy="252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MARTPenAnnotation460"/>
          <p:cNvSpPr/>
          <p:nvPr/>
        </p:nvSpPr>
        <p:spPr>
          <a:xfrm>
            <a:off x="5086440" y="446040"/>
            <a:ext cx="33120" cy="639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MARTPenAnnotation461"/>
          <p:cNvSpPr/>
          <p:nvPr/>
        </p:nvSpPr>
        <p:spPr>
          <a:xfrm>
            <a:off x="5246640" y="1006560"/>
            <a:ext cx="11160" cy="158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MARTPenAnnotation462"/>
          <p:cNvSpPr/>
          <p:nvPr/>
        </p:nvSpPr>
        <p:spPr>
          <a:xfrm>
            <a:off x="5349960" y="811080"/>
            <a:ext cx="193680" cy="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MARTPenAnnotation463"/>
          <p:cNvSpPr/>
          <p:nvPr/>
        </p:nvSpPr>
        <p:spPr>
          <a:xfrm>
            <a:off x="5646600" y="468360"/>
            <a:ext cx="46080" cy="571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MARTPenAnnotation464"/>
          <p:cNvSpPr/>
          <p:nvPr/>
        </p:nvSpPr>
        <p:spPr>
          <a:xfrm>
            <a:off x="5715000" y="320760"/>
            <a:ext cx="262080" cy="811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MARTPenAnnotation465"/>
          <p:cNvSpPr/>
          <p:nvPr/>
        </p:nvSpPr>
        <p:spPr>
          <a:xfrm>
            <a:off x="5908680" y="949320"/>
            <a:ext cx="103320" cy="272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MARTPenAnnotation466"/>
          <p:cNvSpPr/>
          <p:nvPr/>
        </p:nvSpPr>
        <p:spPr>
          <a:xfrm>
            <a:off x="6149880" y="320760"/>
            <a:ext cx="182520" cy="695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MARTPenAnnotation467"/>
          <p:cNvSpPr/>
          <p:nvPr/>
        </p:nvSpPr>
        <p:spPr>
          <a:xfrm>
            <a:off x="6251400" y="685800"/>
            <a:ext cx="252720" cy="68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MARTPenAnnotation468"/>
          <p:cNvSpPr/>
          <p:nvPr/>
        </p:nvSpPr>
        <p:spPr>
          <a:xfrm>
            <a:off x="6651720" y="365040"/>
            <a:ext cx="34920" cy="663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MARTPenAnnotation469"/>
          <p:cNvSpPr/>
          <p:nvPr/>
        </p:nvSpPr>
        <p:spPr>
          <a:xfrm>
            <a:off x="6800760" y="949320"/>
            <a:ext cx="11160" cy="147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MARTPenAnnotation470"/>
          <p:cNvSpPr/>
          <p:nvPr/>
        </p:nvSpPr>
        <p:spPr>
          <a:xfrm>
            <a:off x="6800760" y="593640"/>
            <a:ext cx="279360" cy="378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MARTPenAnnotation471"/>
          <p:cNvSpPr/>
          <p:nvPr/>
        </p:nvSpPr>
        <p:spPr>
          <a:xfrm>
            <a:off x="7029360" y="411120"/>
            <a:ext cx="228600" cy="696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MARTPenAnnotation472"/>
          <p:cNvSpPr/>
          <p:nvPr/>
        </p:nvSpPr>
        <p:spPr>
          <a:xfrm>
            <a:off x="7223040" y="903240"/>
            <a:ext cx="92160" cy="217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MARTPenAnnotation473"/>
          <p:cNvSpPr/>
          <p:nvPr/>
        </p:nvSpPr>
        <p:spPr>
          <a:xfrm>
            <a:off x="7464600" y="436680"/>
            <a:ext cx="136440" cy="544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MARTPenAnnotation474"/>
          <p:cNvSpPr/>
          <p:nvPr/>
        </p:nvSpPr>
        <p:spPr>
          <a:xfrm>
            <a:off x="7623000" y="480960"/>
            <a:ext cx="206640" cy="444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MARTPenAnnotation475"/>
          <p:cNvSpPr/>
          <p:nvPr/>
        </p:nvSpPr>
        <p:spPr>
          <a:xfrm>
            <a:off x="7897680" y="835200"/>
            <a:ext cx="34920" cy="204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MARTPenAnnotation476"/>
          <p:cNvSpPr/>
          <p:nvPr/>
        </p:nvSpPr>
        <p:spPr>
          <a:xfrm>
            <a:off x="8035920" y="674640"/>
            <a:ext cx="171360" cy="33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MARTPenAnnotation477"/>
          <p:cNvSpPr/>
          <p:nvPr/>
        </p:nvSpPr>
        <p:spPr>
          <a:xfrm>
            <a:off x="8161200" y="434880"/>
            <a:ext cx="228600" cy="528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MARTPenAnnotation478"/>
          <p:cNvSpPr/>
          <p:nvPr/>
        </p:nvSpPr>
        <p:spPr>
          <a:xfrm>
            <a:off x="8379000" y="343080"/>
            <a:ext cx="171360" cy="6285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MARTPenAnnotation479"/>
          <p:cNvSpPr/>
          <p:nvPr/>
        </p:nvSpPr>
        <p:spPr>
          <a:xfrm>
            <a:off x="8526600" y="217440"/>
            <a:ext cx="252360" cy="879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MARTPenAnnotation480"/>
          <p:cNvSpPr/>
          <p:nvPr/>
        </p:nvSpPr>
        <p:spPr>
          <a:xfrm>
            <a:off x="1166760" y="1819440"/>
            <a:ext cx="319320" cy="260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MARTPenAnnotation481"/>
          <p:cNvSpPr/>
          <p:nvPr/>
        </p:nvSpPr>
        <p:spPr>
          <a:xfrm>
            <a:off x="1268280" y="1622520"/>
            <a:ext cx="262080" cy="584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MARTPenAnnotation482"/>
          <p:cNvSpPr/>
          <p:nvPr/>
        </p:nvSpPr>
        <p:spPr>
          <a:xfrm>
            <a:off x="1841400" y="1643040"/>
            <a:ext cx="66600" cy="425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MARTPenAnnotation483"/>
          <p:cNvSpPr/>
          <p:nvPr/>
        </p:nvSpPr>
        <p:spPr>
          <a:xfrm>
            <a:off x="1749600" y="1658880"/>
            <a:ext cx="439560" cy="466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MARTPenAnnotation484"/>
          <p:cNvSpPr/>
          <p:nvPr/>
        </p:nvSpPr>
        <p:spPr>
          <a:xfrm>
            <a:off x="2435400" y="1782720"/>
            <a:ext cx="147600" cy="46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MARTPenAnnotation485"/>
          <p:cNvSpPr/>
          <p:nvPr/>
        </p:nvSpPr>
        <p:spPr>
          <a:xfrm>
            <a:off x="2411280" y="1863720"/>
            <a:ext cx="171720" cy="68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MARTPenAnnotation486"/>
          <p:cNvSpPr/>
          <p:nvPr/>
        </p:nvSpPr>
        <p:spPr>
          <a:xfrm>
            <a:off x="2855880" y="1384200"/>
            <a:ext cx="333360" cy="684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MARTPenAnnotation487"/>
          <p:cNvSpPr/>
          <p:nvPr/>
        </p:nvSpPr>
        <p:spPr>
          <a:xfrm>
            <a:off x="3086280" y="1622520"/>
            <a:ext cx="257040" cy="239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MARTPenAnnotation488"/>
          <p:cNvSpPr/>
          <p:nvPr/>
        </p:nvSpPr>
        <p:spPr>
          <a:xfrm>
            <a:off x="3417840" y="1874880"/>
            <a:ext cx="33480" cy="136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MARTPenAnnotation489"/>
          <p:cNvSpPr/>
          <p:nvPr/>
        </p:nvSpPr>
        <p:spPr>
          <a:xfrm>
            <a:off x="3589200" y="1725480"/>
            <a:ext cx="193680" cy="34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MARTPenAnnotation490"/>
          <p:cNvSpPr/>
          <p:nvPr/>
        </p:nvSpPr>
        <p:spPr>
          <a:xfrm>
            <a:off x="3908520" y="1554120"/>
            <a:ext cx="171360" cy="343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MARTPenAnnotation491"/>
          <p:cNvSpPr/>
          <p:nvPr/>
        </p:nvSpPr>
        <p:spPr>
          <a:xfrm>
            <a:off x="4172040" y="1839960"/>
            <a:ext cx="44280" cy="125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MARTPenAnnotation492"/>
          <p:cNvSpPr/>
          <p:nvPr/>
        </p:nvSpPr>
        <p:spPr>
          <a:xfrm>
            <a:off x="4378320" y="1679400"/>
            <a:ext cx="171360" cy="24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MARTPenAnnotation493"/>
          <p:cNvSpPr/>
          <p:nvPr/>
        </p:nvSpPr>
        <p:spPr>
          <a:xfrm>
            <a:off x="4697280" y="1542960"/>
            <a:ext cx="252720" cy="1605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MARTPenAnnotation494"/>
          <p:cNvSpPr/>
          <p:nvPr/>
        </p:nvSpPr>
        <p:spPr>
          <a:xfrm>
            <a:off x="4892760" y="1554120"/>
            <a:ext cx="101520" cy="366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MARTPenAnnotation495"/>
          <p:cNvSpPr/>
          <p:nvPr/>
        </p:nvSpPr>
        <p:spPr>
          <a:xfrm>
            <a:off x="5086440" y="1828800"/>
            <a:ext cx="46080" cy="125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MARTPenAnnotation496"/>
          <p:cNvSpPr/>
          <p:nvPr/>
        </p:nvSpPr>
        <p:spPr>
          <a:xfrm>
            <a:off x="5337000" y="1725480"/>
            <a:ext cx="195480" cy="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MARTPenAnnotation497"/>
          <p:cNvSpPr/>
          <p:nvPr/>
        </p:nvSpPr>
        <p:spPr>
          <a:xfrm>
            <a:off x="5646600" y="1496880"/>
            <a:ext cx="68400" cy="400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MARTPenAnnotation498"/>
          <p:cNvSpPr/>
          <p:nvPr/>
        </p:nvSpPr>
        <p:spPr>
          <a:xfrm>
            <a:off x="5772240" y="1886040"/>
            <a:ext cx="34920" cy="92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MARTPenAnnotation499"/>
          <p:cNvSpPr/>
          <p:nvPr/>
        </p:nvSpPr>
        <p:spPr>
          <a:xfrm>
            <a:off x="5967360" y="1622520"/>
            <a:ext cx="168480" cy="241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MARTPenAnnotation500"/>
          <p:cNvSpPr/>
          <p:nvPr/>
        </p:nvSpPr>
        <p:spPr>
          <a:xfrm>
            <a:off x="6022800" y="1441440"/>
            <a:ext cx="387360" cy="627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MARTPenAnnotation501"/>
          <p:cNvSpPr/>
          <p:nvPr/>
        </p:nvSpPr>
        <p:spPr>
          <a:xfrm>
            <a:off x="1865160" y="2406600"/>
            <a:ext cx="374760" cy="405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MARTPenAnnotation502"/>
          <p:cNvSpPr/>
          <p:nvPr/>
        </p:nvSpPr>
        <p:spPr>
          <a:xfrm>
            <a:off x="2343240" y="2492280"/>
            <a:ext cx="171360" cy="22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MARTPenAnnotation503"/>
          <p:cNvSpPr/>
          <p:nvPr/>
        </p:nvSpPr>
        <p:spPr>
          <a:xfrm>
            <a:off x="2343240" y="2593800"/>
            <a:ext cx="217440" cy="35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MARTPenAnnotation504"/>
          <p:cNvSpPr/>
          <p:nvPr/>
        </p:nvSpPr>
        <p:spPr>
          <a:xfrm>
            <a:off x="2698920" y="2251080"/>
            <a:ext cx="237960" cy="641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MARTPenAnnotation505"/>
          <p:cNvSpPr/>
          <p:nvPr/>
        </p:nvSpPr>
        <p:spPr>
          <a:xfrm>
            <a:off x="2960640" y="2367000"/>
            <a:ext cx="171360" cy="284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MARTPenAnnotation506"/>
          <p:cNvSpPr/>
          <p:nvPr/>
        </p:nvSpPr>
        <p:spPr>
          <a:xfrm>
            <a:off x="3257640" y="2606760"/>
            <a:ext cx="57240" cy="158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MARTPenAnnotation507"/>
          <p:cNvSpPr/>
          <p:nvPr/>
        </p:nvSpPr>
        <p:spPr>
          <a:xfrm>
            <a:off x="3475080" y="2332080"/>
            <a:ext cx="28440" cy="376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MARTPenAnnotation508"/>
          <p:cNvSpPr/>
          <p:nvPr/>
        </p:nvSpPr>
        <p:spPr>
          <a:xfrm>
            <a:off x="3589200" y="2674800"/>
            <a:ext cx="57240" cy="114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MARTPenAnnotation509"/>
          <p:cNvSpPr/>
          <p:nvPr/>
        </p:nvSpPr>
        <p:spPr>
          <a:xfrm>
            <a:off x="3760920" y="2479680"/>
            <a:ext cx="204480" cy="23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MARTPenAnnotation510"/>
          <p:cNvSpPr/>
          <p:nvPr/>
        </p:nvSpPr>
        <p:spPr>
          <a:xfrm>
            <a:off x="4114800" y="2263680"/>
            <a:ext cx="79200" cy="343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MARTPenAnnotation511"/>
          <p:cNvSpPr/>
          <p:nvPr/>
        </p:nvSpPr>
        <p:spPr>
          <a:xfrm>
            <a:off x="4297320" y="2583000"/>
            <a:ext cx="11160" cy="149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MARTPenAnnotation512"/>
          <p:cNvSpPr/>
          <p:nvPr/>
        </p:nvSpPr>
        <p:spPr>
          <a:xfrm>
            <a:off x="4468680" y="2279520"/>
            <a:ext cx="319320" cy="3495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MARTPenAnnotation513"/>
          <p:cNvSpPr/>
          <p:nvPr/>
        </p:nvSpPr>
        <p:spPr>
          <a:xfrm>
            <a:off x="4960800" y="2629080"/>
            <a:ext cx="22320" cy="149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MARTPenAnnotation514"/>
          <p:cNvSpPr/>
          <p:nvPr/>
        </p:nvSpPr>
        <p:spPr>
          <a:xfrm>
            <a:off x="5097600" y="2503440"/>
            <a:ext cx="182520" cy="33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MARTPenAnnotation515"/>
          <p:cNvSpPr/>
          <p:nvPr/>
        </p:nvSpPr>
        <p:spPr>
          <a:xfrm>
            <a:off x="5316480" y="2309760"/>
            <a:ext cx="341280" cy="319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MARTPenAnnotation516"/>
          <p:cNvSpPr/>
          <p:nvPr/>
        </p:nvSpPr>
        <p:spPr>
          <a:xfrm>
            <a:off x="5635800" y="2274840"/>
            <a:ext cx="239400" cy="446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MARTPenAnnotation517"/>
          <p:cNvSpPr/>
          <p:nvPr/>
        </p:nvSpPr>
        <p:spPr>
          <a:xfrm>
            <a:off x="1279440" y="3017880"/>
            <a:ext cx="157320" cy="349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MARTPenAnnotation518"/>
          <p:cNvSpPr/>
          <p:nvPr/>
        </p:nvSpPr>
        <p:spPr>
          <a:xfrm>
            <a:off x="1393920" y="2914560"/>
            <a:ext cx="226800" cy="628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MARTPenAnnotation519"/>
          <p:cNvSpPr/>
          <p:nvPr/>
        </p:nvSpPr>
        <p:spPr>
          <a:xfrm>
            <a:off x="1978200" y="3137040"/>
            <a:ext cx="285480" cy="212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MARTPenAnnotation520"/>
          <p:cNvSpPr/>
          <p:nvPr/>
        </p:nvSpPr>
        <p:spPr>
          <a:xfrm>
            <a:off x="1874880" y="3132000"/>
            <a:ext cx="388800" cy="297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MARTPenAnnotation521"/>
          <p:cNvSpPr/>
          <p:nvPr/>
        </p:nvSpPr>
        <p:spPr>
          <a:xfrm>
            <a:off x="2789280" y="3178080"/>
            <a:ext cx="291960" cy="193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MARTPenAnnotation522"/>
          <p:cNvSpPr/>
          <p:nvPr/>
        </p:nvSpPr>
        <p:spPr>
          <a:xfrm>
            <a:off x="3191040" y="3189240"/>
            <a:ext cx="284040" cy="158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MARTPenAnnotation523"/>
          <p:cNvSpPr/>
          <p:nvPr/>
        </p:nvSpPr>
        <p:spPr>
          <a:xfrm>
            <a:off x="3532320" y="3178080"/>
            <a:ext cx="274680" cy="158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MARTPenAnnotation524"/>
          <p:cNvSpPr/>
          <p:nvPr/>
        </p:nvSpPr>
        <p:spPr>
          <a:xfrm>
            <a:off x="3521160" y="3189240"/>
            <a:ext cx="204840" cy="1605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MARTPenAnnotation525"/>
          <p:cNvSpPr/>
          <p:nvPr/>
        </p:nvSpPr>
        <p:spPr>
          <a:xfrm>
            <a:off x="3908520" y="3200400"/>
            <a:ext cx="183960" cy="34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MARTPenAnnotation526"/>
          <p:cNvSpPr/>
          <p:nvPr/>
        </p:nvSpPr>
        <p:spPr>
          <a:xfrm>
            <a:off x="3954600" y="3257640"/>
            <a:ext cx="228600" cy="34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MARTPenAnnotation527"/>
          <p:cNvSpPr/>
          <p:nvPr/>
        </p:nvSpPr>
        <p:spPr>
          <a:xfrm>
            <a:off x="4299120" y="3065400"/>
            <a:ext cx="387360" cy="258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MARTPenAnnotation528"/>
          <p:cNvSpPr/>
          <p:nvPr/>
        </p:nvSpPr>
        <p:spPr>
          <a:xfrm>
            <a:off x="5086440" y="3075120"/>
            <a:ext cx="263520" cy="171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MARTPenAnnotation529"/>
          <p:cNvSpPr/>
          <p:nvPr/>
        </p:nvSpPr>
        <p:spPr>
          <a:xfrm>
            <a:off x="5006880" y="3075120"/>
            <a:ext cx="319320" cy="228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MARTPenAnnotation530"/>
          <p:cNvSpPr/>
          <p:nvPr/>
        </p:nvSpPr>
        <p:spPr>
          <a:xfrm>
            <a:off x="5394240" y="3086280"/>
            <a:ext cx="327240" cy="160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MARTPenAnnotation531"/>
          <p:cNvSpPr/>
          <p:nvPr/>
        </p:nvSpPr>
        <p:spPr>
          <a:xfrm>
            <a:off x="5851440" y="3097080"/>
            <a:ext cx="22320" cy="138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MARTPenAnnotation532"/>
          <p:cNvSpPr/>
          <p:nvPr/>
        </p:nvSpPr>
        <p:spPr>
          <a:xfrm>
            <a:off x="5749920" y="2971800"/>
            <a:ext cx="22320" cy="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MARTPenAnnotation533"/>
          <p:cNvSpPr/>
          <p:nvPr/>
        </p:nvSpPr>
        <p:spPr>
          <a:xfrm>
            <a:off x="5908680" y="3040200"/>
            <a:ext cx="171360" cy="160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MARTPenAnnotation534"/>
          <p:cNvSpPr/>
          <p:nvPr/>
        </p:nvSpPr>
        <p:spPr>
          <a:xfrm>
            <a:off x="6218280" y="3051000"/>
            <a:ext cx="182520" cy="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MARTPenAnnotation535"/>
          <p:cNvSpPr/>
          <p:nvPr/>
        </p:nvSpPr>
        <p:spPr>
          <a:xfrm>
            <a:off x="6229440" y="3143160"/>
            <a:ext cx="171360" cy="46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MARTPenAnnotation536"/>
          <p:cNvSpPr/>
          <p:nvPr/>
        </p:nvSpPr>
        <p:spPr>
          <a:xfrm>
            <a:off x="6561000" y="3075120"/>
            <a:ext cx="114480" cy="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MARTPenAnnotation537"/>
          <p:cNvSpPr/>
          <p:nvPr/>
        </p:nvSpPr>
        <p:spPr>
          <a:xfrm>
            <a:off x="6721560" y="2892600"/>
            <a:ext cx="203040" cy="123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MARTPenAnnotation538"/>
          <p:cNvSpPr/>
          <p:nvPr/>
        </p:nvSpPr>
        <p:spPr>
          <a:xfrm>
            <a:off x="6858000" y="2868480"/>
            <a:ext cx="34920" cy="411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MARTPenAnnotation539"/>
          <p:cNvSpPr/>
          <p:nvPr/>
        </p:nvSpPr>
        <p:spPr>
          <a:xfrm>
            <a:off x="1782720" y="3543480"/>
            <a:ext cx="217440" cy="442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MARTPenAnnotation540"/>
          <p:cNvSpPr/>
          <p:nvPr/>
        </p:nvSpPr>
        <p:spPr>
          <a:xfrm>
            <a:off x="2068560" y="3567240"/>
            <a:ext cx="274680" cy="139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MARTPenAnnotation541"/>
          <p:cNvSpPr/>
          <p:nvPr/>
        </p:nvSpPr>
        <p:spPr>
          <a:xfrm>
            <a:off x="2457360" y="3537000"/>
            <a:ext cx="182520" cy="177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MARTPenAnnotation542"/>
          <p:cNvSpPr/>
          <p:nvPr/>
        </p:nvSpPr>
        <p:spPr>
          <a:xfrm>
            <a:off x="2708280" y="3554280"/>
            <a:ext cx="217440" cy="136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MARTPenAnnotation543"/>
          <p:cNvSpPr/>
          <p:nvPr/>
        </p:nvSpPr>
        <p:spPr>
          <a:xfrm>
            <a:off x="2732040" y="3543480"/>
            <a:ext cx="160560" cy="149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MARTPenAnnotation544"/>
          <p:cNvSpPr/>
          <p:nvPr/>
        </p:nvSpPr>
        <p:spPr>
          <a:xfrm>
            <a:off x="3006720" y="3554280"/>
            <a:ext cx="147600" cy="24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MARTPenAnnotation545"/>
          <p:cNvSpPr/>
          <p:nvPr/>
        </p:nvSpPr>
        <p:spPr>
          <a:xfrm>
            <a:off x="3040200" y="3600360"/>
            <a:ext cx="195120" cy="34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MARTPenAnnotation546"/>
          <p:cNvSpPr/>
          <p:nvPr/>
        </p:nvSpPr>
        <p:spPr>
          <a:xfrm>
            <a:off x="3371760" y="3463920"/>
            <a:ext cx="204840" cy="216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MARTPenAnnotation547"/>
          <p:cNvSpPr/>
          <p:nvPr/>
        </p:nvSpPr>
        <p:spPr>
          <a:xfrm>
            <a:off x="4194000" y="3476520"/>
            <a:ext cx="250920" cy="3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MARTPenAnnotation548"/>
          <p:cNvSpPr/>
          <p:nvPr/>
        </p:nvSpPr>
        <p:spPr>
          <a:xfrm>
            <a:off x="4537080" y="3476520"/>
            <a:ext cx="342720" cy="162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MARTPenAnnotation549"/>
          <p:cNvSpPr/>
          <p:nvPr/>
        </p:nvSpPr>
        <p:spPr>
          <a:xfrm>
            <a:off x="4983120" y="3486240"/>
            <a:ext cx="22320" cy="136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MARTPenAnnotation550"/>
          <p:cNvSpPr/>
          <p:nvPr/>
        </p:nvSpPr>
        <p:spPr>
          <a:xfrm>
            <a:off x="4960800" y="3382920"/>
            <a:ext cx="11160" cy="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MARTPenAnnotation551"/>
          <p:cNvSpPr/>
          <p:nvPr/>
        </p:nvSpPr>
        <p:spPr>
          <a:xfrm>
            <a:off x="5097600" y="3497400"/>
            <a:ext cx="228600" cy="156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MARTPenAnnotation552"/>
          <p:cNvSpPr/>
          <p:nvPr/>
        </p:nvSpPr>
        <p:spPr>
          <a:xfrm>
            <a:off x="5486400" y="3486240"/>
            <a:ext cx="149400" cy="34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MARTPenAnnotation553"/>
          <p:cNvSpPr/>
          <p:nvPr/>
        </p:nvSpPr>
        <p:spPr>
          <a:xfrm>
            <a:off x="5475240" y="3600360"/>
            <a:ext cx="182520" cy="223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MARTPenAnnotation554"/>
          <p:cNvSpPr/>
          <p:nvPr/>
        </p:nvSpPr>
        <p:spPr>
          <a:xfrm>
            <a:off x="5772240" y="3508200"/>
            <a:ext cx="171360" cy="35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160" bIns="-11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MARTPenAnnotation555"/>
          <p:cNvSpPr/>
          <p:nvPr/>
        </p:nvSpPr>
        <p:spPr>
          <a:xfrm>
            <a:off x="5965920" y="3349800"/>
            <a:ext cx="342720" cy="272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MARTPenAnnotation556"/>
          <p:cNvSpPr/>
          <p:nvPr/>
        </p:nvSpPr>
        <p:spPr>
          <a:xfrm>
            <a:off x="6114960" y="3543480"/>
            <a:ext cx="582840" cy="26175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MARTPenAnnotation557"/>
          <p:cNvSpPr/>
          <p:nvPr/>
        </p:nvSpPr>
        <p:spPr>
          <a:xfrm>
            <a:off x="4194000" y="4519440"/>
            <a:ext cx="2826000" cy="189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MARTPenAnnotation558"/>
          <p:cNvSpPr/>
          <p:nvPr/>
        </p:nvSpPr>
        <p:spPr>
          <a:xfrm>
            <a:off x="7358040" y="4537080"/>
            <a:ext cx="539640" cy="23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MARTPenAnnotation559"/>
          <p:cNvSpPr/>
          <p:nvPr/>
        </p:nvSpPr>
        <p:spPr>
          <a:xfrm>
            <a:off x="6594480" y="4389480"/>
            <a:ext cx="34920" cy="318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MARTPenAnnotation560"/>
          <p:cNvSpPr/>
          <p:nvPr/>
        </p:nvSpPr>
        <p:spPr>
          <a:xfrm>
            <a:off x="6912000" y="4389480"/>
            <a:ext cx="38160" cy="233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MARTPenAnnotation561"/>
          <p:cNvSpPr/>
          <p:nvPr/>
        </p:nvSpPr>
        <p:spPr>
          <a:xfrm>
            <a:off x="6915240" y="4651200"/>
            <a:ext cx="11160" cy="12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MARTPenAnnotation562"/>
          <p:cNvSpPr/>
          <p:nvPr/>
        </p:nvSpPr>
        <p:spPr>
          <a:xfrm>
            <a:off x="7184880" y="4411800"/>
            <a:ext cx="16200" cy="91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MARTPenAnnotation563"/>
          <p:cNvSpPr/>
          <p:nvPr/>
        </p:nvSpPr>
        <p:spPr>
          <a:xfrm>
            <a:off x="7165800" y="4664160"/>
            <a:ext cx="12960" cy="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MARTPenAnnotation564"/>
          <p:cNvSpPr/>
          <p:nvPr/>
        </p:nvSpPr>
        <p:spPr>
          <a:xfrm>
            <a:off x="7456320" y="4343400"/>
            <a:ext cx="30240" cy="246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MARTPenAnnotation565"/>
          <p:cNvSpPr/>
          <p:nvPr/>
        </p:nvSpPr>
        <p:spPr>
          <a:xfrm>
            <a:off x="7451640" y="4675320"/>
            <a:ext cx="12960" cy="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MARTPenAnnotation566"/>
          <p:cNvSpPr/>
          <p:nvPr/>
        </p:nvSpPr>
        <p:spPr>
          <a:xfrm>
            <a:off x="6504120" y="4789440"/>
            <a:ext cx="17280" cy="239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MARTPenAnnotation567"/>
          <p:cNvSpPr/>
          <p:nvPr/>
        </p:nvSpPr>
        <p:spPr>
          <a:xfrm>
            <a:off x="6778800" y="4759200"/>
            <a:ext cx="58680" cy="19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MARTPenAnnotation568"/>
          <p:cNvSpPr/>
          <p:nvPr/>
        </p:nvSpPr>
        <p:spPr>
          <a:xfrm>
            <a:off x="6765840" y="4906800"/>
            <a:ext cx="60480" cy="432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MARTPenAnnotation569"/>
          <p:cNvSpPr/>
          <p:nvPr/>
        </p:nvSpPr>
        <p:spPr>
          <a:xfrm>
            <a:off x="6880320" y="4950000"/>
            <a:ext cx="12600" cy="10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MARTPenAnnotation570"/>
          <p:cNvSpPr/>
          <p:nvPr/>
        </p:nvSpPr>
        <p:spPr>
          <a:xfrm>
            <a:off x="6264360" y="4240080"/>
            <a:ext cx="330120" cy="34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MARTPenAnnotation571"/>
          <p:cNvSpPr/>
          <p:nvPr/>
        </p:nvSpPr>
        <p:spPr>
          <a:xfrm>
            <a:off x="6058080" y="4137120"/>
            <a:ext cx="34920" cy="252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MARTPenAnnotation572"/>
          <p:cNvSpPr/>
          <p:nvPr/>
        </p:nvSpPr>
        <p:spPr>
          <a:xfrm>
            <a:off x="6389640" y="3936960"/>
            <a:ext cx="285840" cy="284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MARTPenAnnotation573"/>
          <p:cNvSpPr/>
          <p:nvPr/>
        </p:nvSpPr>
        <p:spPr>
          <a:xfrm>
            <a:off x="6046920" y="3800520"/>
            <a:ext cx="261720" cy="1839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MARTPenAnnotation574"/>
          <p:cNvSpPr/>
          <p:nvPr/>
        </p:nvSpPr>
        <p:spPr>
          <a:xfrm>
            <a:off x="6400800" y="3624120"/>
            <a:ext cx="411120" cy="334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MARTPenAnnotation575"/>
          <p:cNvSpPr/>
          <p:nvPr/>
        </p:nvSpPr>
        <p:spPr>
          <a:xfrm>
            <a:off x="6207120" y="3567240"/>
            <a:ext cx="147600" cy="226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MARTPenAnnotation576"/>
          <p:cNvSpPr/>
          <p:nvPr/>
        </p:nvSpPr>
        <p:spPr>
          <a:xfrm>
            <a:off x="6103800" y="4708440"/>
            <a:ext cx="308160" cy="572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MARTPenAnnotation577"/>
          <p:cNvSpPr/>
          <p:nvPr/>
        </p:nvSpPr>
        <p:spPr>
          <a:xfrm>
            <a:off x="5908680" y="4629240"/>
            <a:ext cx="11160" cy="71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MARTPenAnnotation578"/>
          <p:cNvSpPr/>
          <p:nvPr/>
        </p:nvSpPr>
        <p:spPr>
          <a:xfrm>
            <a:off x="5908680" y="4857840"/>
            <a:ext cx="12600" cy="11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MARTPenAnnotation579"/>
          <p:cNvSpPr/>
          <p:nvPr/>
        </p:nvSpPr>
        <p:spPr>
          <a:xfrm>
            <a:off x="6161040" y="5051520"/>
            <a:ext cx="160560" cy="23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MARTPenAnnotation580"/>
          <p:cNvSpPr/>
          <p:nvPr/>
        </p:nvSpPr>
        <p:spPr>
          <a:xfrm>
            <a:off x="5657760" y="4765680"/>
            <a:ext cx="149400" cy="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MARTPenAnnotation581"/>
          <p:cNvSpPr/>
          <p:nvPr/>
        </p:nvSpPr>
        <p:spPr>
          <a:xfrm>
            <a:off x="5897520" y="4629240"/>
            <a:ext cx="23760" cy="296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MARTPenAnnotation582"/>
          <p:cNvSpPr/>
          <p:nvPr/>
        </p:nvSpPr>
        <p:spPr>
          <a:xfrm>
            <a:off x="5600880" y="5132520"/>
            <a:ext cx="193320" cy="33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MARTPenAnnotation583"/>
          <p:cNvSpPr/>
          <p:nvPr/>
        </p:nvSpPr>
        <p:spPr>
          <a:xfrm>
            <a:off x="5886360" y="4938840"/>
            <a:ext cx="160560" cy="296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MARTPenAnnotation584"/>
          <p:cNvSpPr/>
          <p:nvPr/>
        </p:nvSpPr>
        <p:spPr>
          <a:xfrm>
            <a:off x="6035760" y="4411800"/>
            <a:ext cx="57240" cy="263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MARTPenAnnotation585"/>
          <p:cNvSpPr/>
          <p:nvPr/>
        </p:nvSpPr>
        <p:spPr>
          <a:xfrm>
            <a:off x="5715000" y="4411800"/>
            <a:ext cx="34920" cy="252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MARTPenAnnotation586"/>
          <p:cNvSpPr/>
          <p:nvPr/>
        </p:nvSpPr>
        <p:spPr>
          <a:xfrm>
            <a:off x="5418000" y="4435560"/>
            <a:ext cx="57240" cy="296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MARTPenAnnotation587"/>
          <p:cNvSpPr/>
          <p:nvPr/>
        </p:nvSpPr>
        <p:spPr>
          <a:xfrm>
            <a:off x="6711840" y="4754520"/>
            <a:ext cx="249480" cy="228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MARTPenAnnotation588"/>
          <p:cNvSpPr/>
          <p:nvPr/>
        </p:nvSpPr>
        <p:spPr>
          <a:xfrm>
            <a:off x="7165800" y="4389480"/>
            <a:ext cx="46080" cy="2286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MARTPenAnnotation589"/>
          <p:cNvSpPr/>
          <p:nvPr/>
        </p:nvSpPr>
        <p:spPr>
          <a:xfrm>
            <a:off x="7007400" y="4514760"/>
            <a:ext cx="776160" cy="34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MARTPenAnnotation590"/>
          <p:cNvSpPr/>
          <p:nvPr/>
        </p:nvSpPr>
        <p:spPr>
          <a:xfrm>
            <a:off x="7040520" y="4676760"/>
            <a:ext cx="206280" cy="284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MARTPenAnnotation591"/>
          <p:cNvSpPr/>
          <p:nvPr/>
        </p:nvSpPr>
        <p:spPr>
          <a:xfrm>
            <a:off x="7354800" y="4708440"/>
            <a:ext cx="154080" cy="125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MARTPenAnnotation592"/>
          <p:cNvSpPr/>
          <p:nvPr/>
        </p:nvSpPr>
        <p:spPr>
          <a:xfrm>
            <a:off x="7440480" y="4686480"/>
            <a:ext cx="46080" cy="353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MARTPenAnnotation593"/>
          <p:cNvSpPr/>
          <p:nvPr/>
        </p:nvSpPr>
        <p:spPr>
          <a:xfrm>
            <a:off x="7010280" y="3909960"/>
            <a:ext cx="82800" cy="889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MARTPenAnnotation594"/>
          <p:cNvSpPr/>
          <p:nvPr/>
        </p:nvSpPr>
        <p:spPr>
          <a:xfrm>
            <a:off x="5429160" y="4189320"/>
            <a:ext cx="68400" cy="96840"/>
          </a:xfrm>
          <a:prstGeom prst="pie">
            <a:avLst/>
          </a:prstGeom>
          <a:solidFill>
            <a:srgbClr val="cc0066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Objectives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function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 a function four different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range and domain of a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What is a function?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ction is a relation in which every input (x) has exactly one output (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mphasize that y is a function of x, the notation y=f(x) is often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riable y is called the dependent vari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riable x is called the independent vari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Anatomy of a function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= f(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20)=4 would read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of 20 equals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, g, and h are often used as names of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7"/>
          <p:cNvSpPr/>
          <p:nvPr/>
        </p:nvSpPr>
        <p:spPr>
          <a:xfrm>
            <a:off x="1981080" y="2514600"/>
            <a:ext cx="1067040" cy="457200"/>
          </a:xfrm>
          <a:prstGeom prst="borderCallout2">
            <a:avLst>
              <a:gd name="adj1" fmla="val 18750"/>
              <a:gd name="adj2" fmla="val -8333"/>
              <a:gd name="adj3" fmla="val 25000"/>
              <a:gd name="adj4" fmla="val 138689"/>
              <a:gd name="adj5" fmla="val -66666"/>
              <a:gd name="adj6" fmla="val 171430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9"/>
          <p:cNvSpPr/>
          <p:nvPr/>
        </p:nvSpPr>
        <p:spPr>
          <a:xfrm>
            <a:off x="4724280" y="3086280"/>
            <a:ext cx="9144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2500"/>
              <a:gd name="adj5" fmla="val -143750"/>
              <a:gd name="adj6" fmla="val -16666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10"/>
          <p:cNvSpPr/>
          <p:nvPr/>
        </p:nvSpPr>
        <p:spPr>
          <a:xfrm>
            <a:off x="6400800" y="24764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81944"/>
              <a:gd name="adj5" fmla="val -43750"/>
              <a:gd name="adj6" fmla="val -158333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MARTPenAnnotation418"/>
          <p:cNvSpPr/>
          <p:nvPr/>
        </p:nvSpPr>
        <p:spPr>
          <a:xfrm>
            <a:off x="6035760" y="3743280"/>
            <a:ext cx="296640" cy="760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MARTPenAnnotation419"/>
          <p:cNvSpPr/>
          <p:nvPr/>
        </p:nvSpPr>
        <p:spPr>
          <a:xfrm>
            <a:off x="5902200" y="4160880"/>
            <a:ext cx="441360" cy="68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MARTPenAnnotation420"/>
          <p:cNvSpPr/>
          <p:nvPr/>
        </p:nvSpPr>
        <p:spPr>
          <a:xfrm>
            <a:off x="5154480" y="4056120"/>
            <a:ext cx="274680" cy="722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MARTPenAnnotation421"/>
          <p:cNvSpPr/>
          <p:nvPr/>
        </p:nvSpPr>
        <p:spPr>
          <a:xfrm>
            <a:off x="5486400" y="4149720"/>
            <a:ext cx="125280" cy="33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MARTPenAnnotation422"/>
          <p:cNvSpPr/>
          <p:nvPr/>
        </p:nvSpPr>
        <p:spPr>
          <a:xfrm>
            <a:off x="5521320" y="4229280"/>
            <a:ext cx="114480" cy="10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MARTPenAnnotation423"/>
          <p:cNvSpPr/>
          <p:nvPr/>
        </p:nvSpPr>
        <p:spPr>
          <a:xfrm>
            <a:off x="6424560" y="3726000"/>
            <a:ext cx="330120" cy="707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MARTPenAnnotation424"/>
          <p:cNvSpPr/>
          <p:nvPr/>
        </p:nvSpPr>
        <p:spPr>
          <a:xfrm>
            <a:off x="6743880" y="4092480"/>
            <a:ext cx="274320" cy="182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MARTPenAnnotation425"/>
          <p:cNvSpPr/>
          <p:nvPr/>
        </p:nvSpPr>
        <p:spPr>
          <a:xfrm>
            <a:off x="6754680" y="4022640"/>
            <a:ext cx="217800" cy="331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MARTPenAnnotation426"/>
          <p:cNvSpPr/>
          <p:nvPr/>
        </p:nvSpPr>
        <p:spPr>
          <a:xfrm>
            <a:off x="7064280" y="3828960"/>
            <a:ext cx="181080" cy="525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SMARTPenAnnotation427"/>
          <p:cNvSpPr/>
          <p:nvPr/>
        </p:nvSpPr>
        <p:spPr>
          <a:xfrm>
            <a:off x="6080040" y="4748040"/>
            <a:ext cx="304920" cy="509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MARTPenAnnotation428"/>
          <p:cNvSpPr/>
          <p:nvPr/>
        </p:nvSpPr>
        <p:spPr>
          <a:xfrm>
            <a:off x="6572160" y="4697280"/>
            <a:ext cx="250920" cy="81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MARTPenAnnotation429"/>
          <p:cNvSpPr/>
          <p:nvPr/>
        </p:nvSpPr>
        <p:spPr>
          <a:xfrm>
            <a:off x="6618240" y="4778280"/>
            <a:ext cx="239760" cy="68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MARTPenAnnotation430"/>
          <p:cNvSpPr/>
          <p:nvPr/>
        </p:nvSpPr>
        <p:spPr>
          <a:xfrm>
            <a:off x="7097760" y="4560840"/>
            <a:ext cx="309600" cy="536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MARTPenAnnotation431"/>
          <p:cNvSpPr/>
          <p:nvPr/>
        </p:nvSpPr>
        <p:spPr>
          <a:xfrm>
            <a:off x="7534440" y="4336920"/>
            <a:ext cx="123840" cy="428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MARTPenAnnotation432"/>
          <p:cNvSpPr/>
          <p:nvPr/>
        </p:nvSpPr>
        <p:spPr>
          <a:xfrm>
            <a:off x="7750080" y="4492800"/>
            <a:ext cx="216000" cy="1364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MARTPenAnnotation433"/>
          <p:cNvSpPr/>
          <p:nvPr/>
        </p:nvSpPr>
        <p:spPr>
          <a:xfrm>
            <a:off x="7772400" y="4435560"/>
            <a:ext cx="149400" cy="285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MARTPenAnnotation434"/>
          <p:cNvSpPr/>
          <p:nvPr/>
        </p:nvSpPr>
        <p:spPr>
          <a:xfrm>
            <a:off x="7966080" y="4251240"/>
            <a:ext cx="250920" cy="492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MARTPenAnnotation435"/>
          <p:cNvSpPr/>
          <p:nvPr/>
        </p:nvSpPr>
        <p:spPr>
          <a:xfrm>
            <a:off x="6748560" y="5173560"/>
            <a:ext cx="253800" cy="484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MARTPenAnnotation436"/>
          <p:cNvSpPr/>
          <p:nvPr/>
        </p:nvSpPr>
        <p:spPr>
          <a:xfrm>
            <a:off x="7121520" y="5222880"/>
            <a:ext cx="228600" cy="69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MARTPenAnnotation437"/>
          <p:cNvSpPr/>
          <p:nvPr/>
        </p:nvSpPr>
        <p:spPr>
          <a:xfrm>
            <a:off x="7155000" y="5280120"/>
            <a:ext cx="228600" cy="149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MARTPenAnnotation438"/>
          <p:cNvSpPr/>
          <p:nvPr/>
        </p:nvSpPr>
        <p:spPr>
          <a:xfrm>
            <a:off x="7486560" y="4925880"/>
            <a:ext cx="200160" cy="5605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MARTPenAnnotation439"/>
          <p:cNvSpPr/>
          <p:nvPr/>
        </p:nvSpPr>
        <p:spPr>
          <a:xfrm>
            <a:off x="7886880" y="4862520"/>
            <a:ext cx="171360" cy="555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MARTPenAnnotation440"/>
          <p:cNvSpPr/>
          <p:nvPr/>
        </p:nvSpPr>
        <p:spPr>
          <a:xfrm>
            <a:off x="8048520" y="5097600"/>
            <a:ext cx="227160" cy="239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MARTPenAnnotation441"/>
          <p:cNvSpPr/>
          <p:nvPr/>
        </p:nvSpPr>
        <p:spPr>
          <a:xfrm>
            <a:off x="8047080" y="5075280"/>
            <a:ext cx="160200" cy="342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MARTPenAnnotation442"/>
          <p:cNvSpPr/>
          <p:nvPr/>
        </p:nvSpPr>
        <p:spPr>
          <a:xfrm>
            <a:off x="8207280" y="4789440"/>
            <a:ext cx="227160" cy="593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Domain and range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t of valid or meaningful inputs (x) is called the domain of a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responding outputs (y) is the r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f(x)=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be the doma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uld be the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ess stated otherwise, the domain of a function f is the set of all real numbers that make sense for the function.   This is called the implied domai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MARTPenAnnotation400"/>
          <p:cNvSpPr/>
          <p:nvPr/>
        </p:nvSpPr>
        <p:spPr>
          <a:xfrm>
            <a:off x="5464080" y="3360600"/>
            <a:ext cx="33480" cy="389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MARTPenAnnotation401"/>
          <p:cNvSpPr/>
          <p:nvPr/>
        </p:nvSpPr>
        <p:spPr>
          <a:xfrm>
            <a:off x="5521320" y="3330720"/>
            <a:ext cx="136440" cy="430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MARTPenAnnotation402"/>
          <p:cNvSpPr/>
          <p:nvPr/>
        </p:nvSpPr>
        <p:spPr>
          <a:xfrm>
            <a:off x="5337000" y="3211560"/>
            <a:ext cx="731880" cy="501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MARTPenAnnotation403"/>
          <p:cNvSpPr/>
          <p:nvPr/>
        </p:nvSpPr>
        <p:spPr>
          <a:xfrm>
            <a:off x="5180040" y="3875040"/>
            <a:ext cx="169920" cy="457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MARTPenAnnotation404"/>
          <p:cNvSpPr/>
          <p:nvPr/>
        </p:nvSpPr>
        <p:spPr>
          <a:xfrm>
            <a:off x="5075280" y="4116240"/>
            <a:ext cx="318960" cy="55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MARTPenAnnotation405"/>
          <p:cNvSpPr/>
          <p:nvPr/>
        </p:nvSpPr>
        <p:spPr>
          <a:xfrm>
            <a:off x="5464080" y="3886200"/>
            <a:ext cx="136800" cy="365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MARTPenAnnotation406"/>
          <p:cNvSpPr/>
          <p:nvPr/>
        </p:nvSpPr>
        <p:spPr>
          <a:xfrm>
            <a:off x="5611680" y="4046400"/>
            <a:ext cx="206640" cy="193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MARTPenAnnotation407"/>
          <p:cNvSpPr/>
          <p:nvPr/>
        </p:nvSpPr>
        <p:spPr>
          <a:xfrm>
            <a:off x="5692680" y="4022640"/>
            <a:ext cx="79560" cy="217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MARTPenAnnotation408"/>
          <p:cNvSpPr/>
          <p:nvPr/>
        </p:nvSpPr>
        <p:spPr>
          <a:xfrm>
            <a:off x="5818320" y="3875040"/>
            <a:ext cx="158760" cy="365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MARTPenAnnotation409"/>
          <p:cNvSpPr/>
          <p:nvPr/>
        </p:nvSpPr>
        <p:spPr>
          <a:xfrm>
            <a:off x="6093000" y="4002120"/>
            <a:ext cx="204480" cy="55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MARTPenAnnotation410"/>
          <p:cNvSpPr/>
          <p:nvPr/>
        </p:nvSpPr>
        <p:spPr>
          <a:xfrm>
            <a:off x="6126120" y="4046400"/>
            <a:ext cx="239760" cy="460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MARTPenAnnotation411"/>
          <p:cNvSpPr/>
          <p:nvPr/>
        </p:nvSpPr>
        <p:spPr>
          <a:xfrm>
            <a:off x="6480000" y="3932280"/>
            <a:ext cx="195480" cy="2509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MARTPenAnnotation412"/>
          <p:cNvSpPr/>
          <p:nvPr/>
        </p:nvSpPr>
        <p:spPr>
          <a:xfrm>
            <a:off x="6504120" y="3908520"/>
            <a:ext cx="182520" cy="2746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MARTPenAnnotation413"/>
          <p:cNvSpPr/>
          <p:nvPr/>
        </p:nvSpPr>
        <p:spPr>
          <a:xfrm>
            <a:off x="6765840" y="3760920"/>
            <a:ext cx="228600" cy="204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MARTPenAnnotation414"/>
          <p:cNvSpPr/>
          <p:nvPr/>
        </p:nvSpPr>
        <p:spPr>
          <a:xfrm>
            <a:off x="5886360" y="4435560"/>
            <a:ext cx="249480" cy="536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MARTPenAnnotation415"/>
          <p:cNvSpPr/>
          <p:nvPr/>
        </p:nvSpPr>
        <p:spPr>
          <a:xfrm>
            <a:off x="6297480" y="4378320"/>
            <a:ext cx="263520" cy="2397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MARTPenAnnotation416"/>
          <p:cNvSpPr/>
          <p:nvPr/>
        </p:nvSpPr>
        <p:spPr>
          <a:xfrm>
            <a:off x="6321600" y="4619520"/>
            <a:ext cx="296640" cy="399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MARTPenAnnotation417"/>
          <p:cNvSpPr/>
          <p:nvPr/>
        </p:nvSpPr>
        <p:spPr>
          <a:xfrm>
            <a:off x="6743880" y="4297320"/>
            <a:ext cx="204480" cy="2952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c1c1c"/>
                </a:solidFill>
                <a:latin typeface="Bleeding Cowboys"/>
              </a:rPr>
              <a:t>Formal definition of a function</a:t>
            </a:r>
            <a:endParaRPr b="1" lang="en-US" sz="4400" spc="-1" strike="noStrike">
              <a:solidFill>
                <a:srgbClr val="1c1c1c"/>
              </a:solidFill>
              <a:latin typeface="Bleeding Cowboy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ction is a relation in which each element in the domain corresponds to one element in the r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16:03:13Z</dcterms:created>
  <dc:creator>nuhs</dc:creator>
  <dc:description/>
  <dc:language>en-US</dc:language>
  <cp:lastModifiedBy>Ameena</cp:lastModifiedBy>
  <dcterms:modified xsi:type="dcterms:W3CDTF">2008-09-09T22:24:03Z</dcterms:modified>
  <cp:revision>18</cp:revision>
  <dc:subject/>
  <dc:title>1.3: functions and their representations</dc:title>
</cp:coreProperties>
</file>